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0.wmf" ContentType="image/x-wmf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dt" idx="46"/>
          </p:nvPr>
        </p:nvSpPr>
        <p:spPr>
          <a:xfrm>
            <a:off x="385128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ftr" idx="47"/>
          </p:nvPr>
        </p:nvSpPr>
        <p:spPr>
          <a:xfrm>
            <a:off x="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omponent Regional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 type="sldNum" idx="48"/>
          </p:nvPr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DC18243-5F0E-4476-9E31-E09E5DA4F682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D7A7B4A-BEC1-479F-8165-F67949518AF9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C469FE98-C165-432F-844E-B728421B9BDD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908E14F-47B3-4271-BA05-9D40D09937AF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D171181-CAC1-42E8-84F2-E62AC7235BBF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4B0F9B40-494C-4668-AE7B-FF9B85E27233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37A2C75-56F9-4A12-B393-22D7DC204CD9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AB5142C4-98E3-4157-ADFD-9F7FDBDD0641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C175F191-AA47-40ED-BC7C-13BC5707DE89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EE897C00-F39F-460D-B66C-B6B1958A3FDB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835E78D1-1801-40DF-9143-E3774A9E9EB0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367285A-C867-40EB-80FB-9C83C78D9EAA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D63345C7-6367-4647-BBDA-C3C62330DAAC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7BEE64B6-F0EC-49CC-9A71-AA951CE2181A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54945CF5-4B47-4815-B5E0-F2E3BF33BE3F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7A705A2D-FDA3-44B2-8626-250C8BC78FAB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827DA20-C6F1-405A-AEC5-3093A4191595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AA945A3F-8C5B-4E3E-826B-7425F586999E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4D25ECF-2E8D-4956-BFB8-668561C583EE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BEDB6B0C-319F-43C9-A7D5-5C83BF1420D4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14F3D-99A5-4909-88D5-09E7AFF56A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A8BC9-32BC-4FF0-BC47-0A6B8855766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7BE8A-1BFE-43B6-93B4-BD061B20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CC4D9-295D-4083-9FD3-FC0C4DC4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56A3E-7E36-4B8E-BA4C-051BDDCB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72482-E9FC-49FB-9814-174D61BD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4DCC6-CA13-41F6-9D4D-49076873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966F0-5EC7-4253-944B-C9F19FF2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E4B10-2731-4AD2-9E2F-9BBACD49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F3E68-ED65-4518-A0BD-8570359F0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124B6-2DD5-4FAE-9CA2-DFF8CB1AF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544CE-557A-4051-8471-57355CB24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D25D1-4B61-421E-ADEC-25C2FB0B452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22AB9-96E5-457D-ABD0-DE40EEE1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AA51F-5F30-4073-85FE-84E94A59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9EA9A-7E44-4EBE-AD69-79EEBD87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70E8A-0FBD-44C0-BF1C-AE307158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5BF3D-B620-4286-8150-C8794ED5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9D75E-67E9-4327-ABC2-12FA4749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C89F2-5C3F-4DB9-9A83-B6AFC933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F31CC-1D6E-4E0E-99A3-E66C0EE7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18DAF-9460-4B0A-8A4D-7BAFBDF8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FFCED-ECCE-48FA-B4BF-3310B2E9B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2A840-3E41-4133-900B-0F869BDC15F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10375-70A0-47B1-8557-C55E5A108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18487-371F-4024-A7E9-9E35BEC27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2D0E6-EAF4-4FB7-BB97-58AAD6FF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B2616-8BB0-4860-8EFF-560C3A44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B70F3-0B97-49A2-9973-794354BC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7AB56-A668-49B5-8A4C-AE3EBFE2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45B6D-EEF1-45C2-9CBD-5445BF02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2565B-4DA3-487B-A170-083F8A15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B11D0-89FE-47F2-842F-380BB255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90EAC-0D28-4D27-8178-D31CB49B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9FCE7-F84E-4417-B14E-C1EC1965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15101-8596-481D-BE27-11EC67855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AD4FD-F597-430D-B2DD-DE3DB7D63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6CB44-0F79-4A70-98C2-3D0F3DCC1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B78062-B569-40E3-BDCC-01B4216F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65C53-8951-4DF0-8981-CB04D831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390360-6001-4DC3-B8B3-9BF76D83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6FFB1E-DD06-417D-B54F-F0FCC133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5E00CD-AA8F-4671-8D40-0C2991B4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A6128F-1FC3-4A5C-A4EF-0F444B8E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188A1E-6E7F-479B-A130-ADD312ED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CF7DF6-DD87-45A9-97A9-366599BD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BB9311-B251-49AA-90D0-C035FB6A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163483-6D8A-44B5-B900-82720698C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EDD247-3E02-4974-9C66-3BE578753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84904E-8279-4784-8FF8-DFC735BB8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E459AA-0BF3-4459-8A98-65545110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6F9587-1105-4FD7-BF4B-4AF4BA02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4FC54F-36AE-484F-A307-A71F94FC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9ED46B-6435-4595-9EB3-9DB63739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BE1736-7683-4DD7-B4A4-D4BA5476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F53292-E8F5-449B-B138-EA7A3F08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30A324-9744-44E1-AC0D-2B7C95A3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0B0F36-C74D-43FC-B240-ED8AC240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45465C-08F0-42E7-903F-F0D058B9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A4C793-E33E-48DC-AFF5-C0F3A1B9F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4645D1-4C21-48A8-8854-0A238F722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BD9ED-CEFC-46E1-9475-DE944D718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C2AE1-E74B-42E7-934B-E82E98A9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6D338F-0923-4B5D-9030-3D70C45B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01931F-FCA2-490A-9A08-41D51A4C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2AFBE-0BBF-4570-B2BC-B4138E68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AD4C1-2323-428F-AEEE-823BA3CD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FD529-1747-4FDA-9B1B-6FC84417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848103-DBC7-4D87-A31F-6460906F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F63C7-BE78-4747-9AD6-5222E7C0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89BC3-10E5-4906-B4D0-A2BEDDE1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06CC6F-652A-49C9-A8EB-3383CA2D5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5DFF13-FD39-4EBB-8AF1-19F2BE98F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BEBB8A-1E79-4865-A344-C1BE38C48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0E6D29-9FC3-4348-BB84-5171FBEF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4E67C4-2101-4FD7-8982-7296B3D9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E7E27C-53B3-4427-80C4-82CA8FE1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1B78E1-BC98-41F1-9B5B-4758A488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BAF0B7-2395-48AB-A637-1D8D600E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231D30-C2E0-4F18-91B4-A0AE4D2F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D9A3BD-EDFA-4482-9DEF-A4A2DB29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36A353-CEB7-4BCD-B5FF-CBF2398F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B6ACB7-3210-4471-8902-790AAFAF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4E313D-789B-4CA5-9C8C-93232A171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84826D-7238-4F4D-8184-F4EF7696D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8C7D0C-2795-45F8-8773-57F4B6885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325D52-98B0-4CCE-B1F8-F2F6FE56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2E0356-66B9-4660-8A31-B8A506B2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E06E1A-6E48-4907-81DD-EBA369AD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2959C8-C96C-4707-AD2E-BA9F64DD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0E0EC0-F896-4ABB-A582-696B0534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9185B4-6920-4D21-B67E-7D05FF7F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FCA244-5382-4ED1-84C0-45EBFA1A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7674CE-E37C-45C1-A136-BB793FC9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287953-618B-44A0-827E-E0B69933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B6C179-AA5C-4FE2-AF7C-40F848AAB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F5656C-9C37-4771-BC70-19B68ACEA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89ABEC-2E9A-46D1-9D48-AB2D173EC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8E0C6D-9CCC-4230-A349-233F402E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2E91B1-BFAC-4F46-8C3B-27638C83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B67D9A-F185-488D-B571-DE1C5624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9FFD5E-81A9-4640-80BD-D26AFE9E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B225BE-F8B8-4696-A74D-FECC8EF2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ADA05D-6611-4E88-B691-5D68A56C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E8148-12DC-4DC2-BAE1-5FC6915231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A1520A-4CE1-4CCD-915D-07BE48F4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7C08EC-354F-410D-BA0B-3FF58BB9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BF7241-70E4-4F39-BE7B-5D8B58C0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E20268-B0DA-42C8-9ADD-D6BAD1BE8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8D79E4-0408-4B79-A149-253479E95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B09421-952C-4D86-A980-B470B0E1D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7EC5AD-85D7-4FD1-A570-36864DF8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B8902F-FE86-494B-B290-6B9D4C39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F30E38-6EA9-46B2-A3C2-771A3D02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841647-AF23-4696-9D16-C7659368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93FC93-30A6-43A0-8DF0-834A604A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D9E7B6-80D8-4C42-B193-98322EF0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517EB4-008D-489D-BA7D-95C0696E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09FC6F-8864-4DAA-80B4-1F9681FA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D59EB8-0F66-4A50-97C9-F26962A0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314817-24C8-474A-B038-7373D8CE7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762FCE-25A1-4132-B5DE-025A42142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1DBEFA-BA51-4026-9E7D-38481A8C5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F7B515-9CCB-4627-A371-B7136748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CE4E7E-BE68-4C42-AB87-286BC3D6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FE4BD-E366-4AC8-AE73-3DE978EA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90C6F-3B2A-4E87-A1BC-4BDA9CE9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C03FE-8512-4BC4-8B21-CE4BC380FF2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E4770-6530-4BAE-8C5F-97FB7863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5987FB-E643-4C66-B520-03C1B2B9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C8B0B-9B0F-4CDC-B766-B501996D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31EB2-C123-40FC-8166-C0FBAF0F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6E505-77D3-4993-A244-0F377CA7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9455B5-FC6A-4387-8ABD-E78FACA41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E6DDC-2A3D-41AD-BF8F-FC08BE949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EB516-44E1-4330-B41D-0E9BBBB6326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D63F0E-9CAC-47BD-976A-603FD023B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3F27D-80EE-4006-9BE7-53586F0260B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6E6585-B88C-413D-BF89-C0ABD04C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C5CB15-6A93-4EC4-A05C-02087A24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274356-6E33-406D-8AC8-32471C4B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C07616-1CB0-4DEA-8BF6-282941F6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DA38A4-9F8C-4D27-930A-A23304C2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90376A-12DD-4506-9818-C016031C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D03853-9DE1-4445-ABBC-2B997660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15ECFF-E5C2-44EF-A3AD-6DB89598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81DCEA-A2B8-43A3-80C2-4EA586F3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F1A62D-FBCD-435A-9E48-12F48018A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6E20C-B0AD-4596-8542-218DE697837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47611A-1DFD-4A02-80DF-BCA3AA05B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9B69BC-ED00-4035-BA88-7D875959486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6BC365-0B52-4B01-B225-44A3887F05E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C59869-A528-4017-A9B4-4E31F386A8C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B97F5B-E91A-4DE2-8D99-67F2A167D2B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2AB25C-D594-47B5-BE8F-97360AAFAFA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BBC017-F7F8-4D16-9DCD-ED27A3D322B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AD39FB-AF59-447E-AEFA-6B16CC28F01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5603AD-1F8C-46B4-871C-B8C8ED08545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F1298F-A52E-4E15-8FFA-BB4310D214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2F6AC-5A4F-41E1-8AE4-ECD53B3A442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F67AC8-B1D6-4554-8FED-20C28D351F6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950C1D-0803-4260-AAE0-30901732C29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4763F7-FC9C-4341-9A73-5A5249B25F2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8A046-956E-4EAF-9372-785F4955E01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28B1B-8E24-4D7C-9E0E-7752D7CA302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EE6F7-2B38-4458-AC1D-48245E81A94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F0F5F-B4E9-40EE-A524-D764A45E8D1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2D37C-5D99-473F-87EE-F41402AA4DA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F6F81-DA31-4D0A-BD5D-3F7EA65C616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B9ABC-2617-4619-B008-2FE085DD46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271CF-81F4-4274-B8ED-15BF2DC06A3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1EFC5-4BBB-4BFB-ADBA-FDC1B111DD8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57785-4EC3-4E32-80EB-759C1CE2B1B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83ADD-BCF7-4B6C-8979-AE435744630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3B720-1650-4261-9404-BA273C32BA2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00AA2-7B19-49B9-BC5D-4F9963C89C1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8F97E-B4A4-458A-80D8-03ADCE6E7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5A404-4DA3-485F-9743-30D6223D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CF8E5-49A3-406D-A202-A5312795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F27FD-5B73-4970-9EC5-3982B44A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039EC-F822-4E62-8AA8-570BEFA2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A74DC-3E55-4879-A7A5-6F080F1E7E5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FF765-A0B2-4A27-B50E-1DF908C8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905D7-9FD8-4760-9EF7-6AA7C44A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8CE0E-75FF-413A-BACF-3C9B4115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E134A-FB22-46F8-B04A-C1EE6856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33F5E-F699-4B5E-AA4F-CC216A82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BDAF2-23D6-4F9E-9E7C-DA5FE257F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3FDCB-8360-49CF-8E2B-908EAC3B4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11178-9066-4A9C-A2E3-6EA5B89D1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B0B90-C686-4D24-AE54-B180A44D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698C0-1C17-47AB-A438-39955C41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DC33-9BB9-4ADD-AAD3-0C26AE5D8D5D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ounded Rectangle 13"/>
          <p:cNvSpPr/>
          <p:nvPr/>
        </p:nvSpPr>
        <p:spPr>
          <a:xfrm>
            <a:off x="247680" y="228600"/>
            <a:ext cx="942012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14"/>
          <p:cNvSpPr/>
          <p:nvPr/>
        </p:nvSpPr>
        <p:spPr>
          <a:xfrm>
            <a:off x="6551640" y="4203720"/>
            <a:ext cx="311616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18"/>
          <p:cNvSpPr/>
          <p:nvPr/>
        </p:nvSpPr>
        <p:spPr>
          <a:xfrm>
            <a:off x="2836800" y="4075200"/>
            <a:ext cx="600732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22"/>
          <p:cNvSpPr/>
          <p:nvPr/>
        </p:nvSpPr>
        <p:spPr>
          <a:xfrm>
            <a:off x="3063960" y="4087800"/>
            <a:ext cx="59245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26"/>
          <p:cNvSpPr/>
          <p:nvPr/>
        </p:nvSpPr>
        <p:spPr>
          <a:xfrm>
            <a:off x="6076800" y="4073400"/>
            <a:ext cx="358308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10"/>
          <p:cNvSpPr/>
          <p:nvPr/>
        </p:nvSpPr>
        <p:spPr>
          <a:xfrm>
            <a:off x="228600" y="4059360"/>
            <a:ext cx="945036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19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8B85-D245-4430-8503-063607FB85DB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0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1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5ABC-0EFC-4669-A120-62D66EDC0A5F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449" name="Freeform 14"/>
            <p:cNvSpPr/>
            <p:nvPr/>
          </p:nvSpPr>
          <p:spPr>
            <a:xfrm>
              <a:off x="6550920" y="1824480"/>
              <a:ext cx="31161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8"/>
            <p:cNvSpPr/>
            <p:nvPr/>
          </p:nvSpPr>
          <p:spPr>
            <a:xfrm>
              <a:off x="2836800" y="1695960"/>
              <a:ext cx="600660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2"/>
            <p:cNvSpPr/>
            <p:nvPr/>
          </p:nvSpPr>
          <p:spPr>
            <a:xfrm>
              <a:off x="3063600" y="1708200"/>
              <a:ext cx="592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6"/>
            <p:cNvSpPr/>
            <p:nvPr/>
          </p:nvSpPr>
          <p:spPr>
            <a:xfrm>
              <a:off x="6076440" y="1694880"/>
              <a:ext cx="358380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2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23C9-59B7-4719-9506-44547AD2E387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3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4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C85A-E446-4B73-8D5C-34FED3B19884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497" name="Freeform 14"/>
            <p:cNvSpPr/>
            <p:nvPr/>
          </p:nvSpPr>
          <p:spPr>
            <a:xfrm>
              <a:off x="6550920" y="1824480"/>
              <a:ext cx="31161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8"/>
            <p:cNvSpPr/>
            <p:nvPr/>
          </p:nvSpPr>
          <p:spPr>
            <a:xfrm>
              <a:off x="2836800" y="1695960"/>
              <a:ext cx="600660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22"/>
            <p:cNvSpPr/>
            <p:nvPr/>
          </p:nvSpPr>
          <p:spPr>
            <a:xfrm>
              <a:off x="3063600" y="1708200"/>
              <a:ext cx="592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26"/>
            <p:cNvSpPr/>
            <p:nvPr/>
          </p:nvSpPr>
          <p:spPr>
            <a:xfrm>
              <a:off x="6076440" y="1694880"/>
              <a:ext cx="358380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25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E9D1-F8D6-484B-A52E-B33197DBF730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26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27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9E37-AFC1-40CD-8E45-38D10EBBF9F8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545" name="Freeform 14"/>
            <p:cNvSpPr/>
            <p:nvPr/>
          </p:nvSpPr>
          <p:spPr>
            <a:xfrm>
              <a:off x="6550920" y="1824480"/>
              <a:ext cx="31161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8"/>
            <p:cNvSpPr/>
            <p:nvPr/>
          </p:nvSpPr>
          <p:spPr>
            <a:xfrm>
              <a:off x="2836800" y="1695960"/>
              <a:ext cx="600660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22"/>
            <p:cNvSpPr/>
            <p:nvPr/>
          </p:nvSpPr>
          <p:spPr>
            <a:xfrm>
              <a:off x="3063600" y="1708200"/>
              <a:ext cx="592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26"/>
            <p:cNvSpPr/>
            <p:nvPr/>
          </p:nvSpPr>
          <p:spPr>
            <a:xfrm>
              <a:off x="6076440" y="1694880"/>
              <a:ext cx="358380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28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D556-592E-4BE4-A57D-9BAA261E5828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29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0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817E-0582-453F-ADFB-D7FF7AA3AFB2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ounded Rectangle 11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5"/>
          <p:cNvGrpSpPr/>
          <p:nvPr/>
        </p:nvGrpSpPr>
        <p:grpSpPr>
          <a:xfrm>
            <a:off x="228600" y="714240"/>
            <a:ext cx="9450360" cy="1330560"/>
            <a:chOff x="228600" y="714240"/>
            <a:chExt cx="9450360" cy="1330560"/>
          </a:xfrm>
        </p:grpSpPr>
        <p:sp>
          <p:nvSpPr>
            <p:cNvPr id="593" name="Freeform 14"/>
            <p:cNvSpPr/>
            <p:nvPr/>
          </p:nvSpPr>
          <p:spPr>
            <a:xfrm>
              <a:off x="6550920" y="859320"/>
              <a:ext cx="31161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8"/>
            <p:cNvSpPr/>
            <p:nvPr/>
          </p:nvSpPr>
          <p:spPr>
            <a:xfrm>
              <a:off x="2836800" y="730800"/>
              <a:ext cx="600660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2"/>
            <p:cNvSpPr/>
            <p:nvPr/>
          </p:nvSpPr>
          <p:spPr>
            <a:xfrm>
              <a:off x="3063600" y="743040"/>
              <a:ext cx="592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26"/>
            <p:cNvSpPr/>
            <p:nvPr/>
          </p:nvSpPr>
          <p:spPr>
            <a:xfrm>
              <a:off x="6076440" y="729720"/>
              <a:ext cx="358380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0"/>
            <p:cNvSpPr/>
            <p:nvPr/>
          </p:nvSpPr>
          <p:spPr>
            <a:xfrm>
              <a:off x="228600" y="71424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31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C3AE-3E9E-413C-A603-D0F2F1E955C8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32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33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F4B9-B081-4445-BA7D-9B535FBAF5AD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ounded Rectangle 14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Group 23"/>
          <p:cNvGrpSpPr/>
          <p:nvPr/>
        </p:nvGrpSpPr>
        <p:grpSpPr>
          <a:xfrm>
            <a:off x="228600" y="714240"/>
            <a:ext cx="9450360" cy="1332000"/>
            <a:chOff x="228600" y="714240"/>
            <a:chExt cx="9450360" cy="1332000"/>
          </a:xfrm>
        </p:grpSpPr>
        <p:sp>
          <p:nvSpPr>
            <p:cNvPr id="641" name="Freeform 14"/>
            <p:cNvSpPr/>
            <p:nvPr/>
          </p:nvSpPr>
          <p:spPr>
            <a:xfrm>
              <a:off x="6558840" y="859320"/>
              <a:ext cx="312012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8"/>
            <p:cNvSpPr/>
            <p:nvPr/>
          </p:nvSpPr>
          <p:spPr>
            <a:xfrm>
              <a:off x="2840040" y="730800"/>
              <a:ext cx="601416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2"/>
            <p:cNvSpPr/>
            <p:nvPr/>
          </p:nvSpPr>
          <p:spPr>
            <a:xfrm>
              <a:off x="3067200" y="743040"/>
              <a:ext cx="593136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6"/>
            <p:cNvSpPr/>
            <p:nvPr/>
          </p:nvSpPr>
          <p:spPr>
            <a:xfrm>
              <a:off x="6083640" y="729720"/>
              <a:ext cx="358812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8"/>
            <p:cNvSpPr/>
            <p:nvPr/>
          </p:nvSpPr>
          <p:spPr>
            <a:xfrm>
              <a:off x="228600" y="714240"/>
              <a:ext cx="94503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34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EF5A-3E1D-4259-80EB-8581E55D574C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35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36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F518-EC19-413D-A27E-672FB359E877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ounded Rectangle 14"/>
          <p:cNvSpPr/>
          <p:nvPr/>
        </p:nvSpPr>
        <p:spPr>
          <a:xfrm>
            <a:off x="247680" y="228600"/>
            <a:ext cx="942012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8"/>
          <p:cNvGrpSpPr/>
          <p:nvPr/>
        </p:nvGrpSpPr>
        <p:grpSpPr>
          <a:xfrm>
            <a:off x="228600" y="5354640"/>
            <a:ext cx="9450360" cy="1330200"/>
            <a:chOff x="228600" y="5354640"/>
            <a:chExt cx="9450360" cy="1330200"/>
          </a:xfrm>
        </p:grpSpPr>
        <p:sp>
          <p:nvSpPr>
            <p:cNvPr id="689" name="Freeform 14"/>
            <p:cNvSpPr/>
            <p:nvPr/>
          </p:nvSpPr>
          <p:spPr>
            <a:xfrm>
              <a:off x="6558840" y="5499720"/>
              <a:ext cx="312012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8"/>
            <p:cNvSpPr/>
            <p:nvPr/>
          </p:nvSpPr>
          <p:spPr>
            <a:xfrm>
              <a:off x="2840040" y="5371200"/>
              <a:ext cx="601416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2"/>
            <p:cNvSpPr/>
            <p:nvPr/>
          </p:nvSpPr>
          <p:spPr>
            <a:xfrm>
              <a:off x="3067200" y="5383440"/>
              <a:ext cx="593136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6"/>
            <p:cNvSpPr/>
            <p:nvPr/>
          </p:nvSpPr>
          <p:spPr>
            <a:xfrm>
              <a:off x="6083640" y="5370120"/>
              <a:ext cx="358812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0"/>
            <p:cNvSpPr/>
            <p:nvPr/>
          </p:nvSpPr>
          <p:spPr>
            <a:xfrm>
              <a:off x="228600" y="5354640"/>
              <a:ext cx="94503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37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85FE-FAA5-4C84-8057-6F564A21194E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38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39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1AA6-0CC9-4B81-9DF0-5D55B3F0C09C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737" name="Freeform 14"/>
            <p:cNvSpPr/>
            <p:nvPr/>
          </p:nvSpPr>
          <p:spPr>
            <a:xfrm>
              <a:off x="6550920" y="1824480"/>
              <a:ext cx="31161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8"/>
            <p:cNvSpPr/>
            <p:nvPr/>
          </p:nvSpPr>
          <p:spPr>
            <a:xfrm>
              <a:off x="2836800" y="1695960"/>
              <a:ext cx="600660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22"/>
            <p:cNvSpPr/>
            <p:nvPr/>
          </p:nvSpPr>
          <p:spPr>
            <a:xfrm>
              <a:off x="3063600" y="1708200"/>
              <a:ext cx="592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26"/>
            <p:cNvSpPr/>
            <p:nvPr/>
          </p:nvSpPr>
          <p:spPr>
            <a:xfrm>
              <a:off x="6076440" y="1694880"/>
              <a:ext cx="358380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40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CB15-42F4-428A-9870-B85FFFB9E92E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41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42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3256-C633-41AC-BE30-01F55890C018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ounded Rectangle 20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14"/>
          <p:cNvGrpSpPr/>
          <p:nvPr/>
        </p:nvGrpSpPr>
        <p:grpSpPr>
          <a:xfrm>
            <a:off x="228600" y="714240"/>
            <a:ext cx="9450360" cy="1332000"/>
            <a:chOff x="228600" y="714240"/>
            <a:chExt cx="9450360" cy="1332000"/>
          </a:xfrm>
        </p:grpSpPr>
        <p:sp>
          <p:nvSpPr>
            <p:cNvPr id="785" name="Freeform 14"/>
            <p:cNvSpPr/>
            <p:nvPr/>
          </p:nvSpPr>
          <p:spPr>
            <a:xfrm>
              <a:off x="6558840" y="859320"/>
              <a:ext cx="312012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8"/>
            <p:cNvSpPr/>
            <p:nvPr/>
          </p:nvSpPr>
          <p:spPr>
            <a:xfrm>
              <a:off x="2840040" y="730800"/>
              <a:ext cx="601416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22"/>
            <p:cNvSpPr/>
            <p:nvPr/>
          </p:nvSpPr>
          <p:spPr>
            <a:xfrm>
              <a:off x="3067200" y="743040"/>
              <a:ext cx="593136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26"/>
            <p:cNvSpPr/>
            <p:nvPr/>
          </p:nvSpPr>
          <p:spPr>
            <a:xfrm>
              <a:off x="6083640" y="729720"/>
              <a:ext cx="358812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9"/>
            <p:cNvSpPr/>
            <p:nvPr/>
          </p:nvSpPr>
          <p:spPr>
            <a:xfrm>
              <a:off x="228600" y="714240"/>
              <a:ext cx="94503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4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5B2E-C8D3-4884-A65F-18B1C476C587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4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4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088D-5692-47AC-B921-8FD98811C055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prezentacja_podtytul"/>
          <p:cNvPicPr/>
          <p:nvPr/>
        </p:nvPicPr>
        <p:blipFill>
          <a:blip r:embed="rId2"/>
          <a:stretch/>
        </p:blipFill>
        <p:spPr>
          <a:xfrm>
            <a:off x="-203040" y="-139680"/>
            <a:ext cx="10312200" cy="7137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639800" y="1600200"/>
            <a:ext cx="77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84" name="Freeform 14"/>
            <p:cNvSpPr/>
            <p:nvPr/>
          </p:nvSpPr>
          <p:spPr>
            <a:xfrm>
              <a:off x="6550920" y="1824480"/>
              <a:ext cx="31161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2836800" y="1695960"/>
              <a:ext cx="600660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2"/>
            <p:cNvSpPr/>
            <p:nvPr/>
          </p:nvSpPr>
          <p:spPr>
            <a:xfrm>
              <a:off x="3063600" y="1708200"/>
              <a:ext cx="592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6"/>
            <p:cNvSpPr/>
            <p:nvPr/>
          </p:nvSpPr>
          <p:spPr>
            <a:xfrm>
              <a:off x="6076440" y="1694880"/>
              <a:ext cx="358380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44F7-31DE-4487-B0A2-DC034812A925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Komponent Central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2BD2-EE04-46A1-856E-973FDA657E15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32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prezentacja_podtytul"/>
          <p:cNvPicPr/>
          <p:nvPr/>
        </p:nvPicPr>
        <p:blipFill>
          <a:blip r:embed="rId5"/>
          <a:stretch/>
        </p:blipFill>
        <p:spPr>
          <a:xfrm>
            <a:off x="-203040" y="-139680"/>
            <a:ext cx="10312200" cy="7137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74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prezentacja_tytul"/>
          <p:cNvPicPr/>
          <p:nvPr/>
        </p:nvPicPr>
        <p:blipFill>
          <a:blip r:embed="rId5"/>
          <a:stretch/>
        </p:blipFill>
        <p:spPr>
          <a:xfrm>
            <a:off x="0" y="1440"/>
            <a:ext cx="9906120" cy="6855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znak_KAPITAL_LUDZKI"/>
          <p:cNvPicPr/>
          <p:nvPr/>
        </p:nvPicPr>
        <p:blipFill>
          <a:blip r:embed="rId6"/>
          <a:stretch/>
        </p:blipFill>
        <p:spPr>
          <a:xfrm>
            <a:off x="2143080" y="4716360"/>
            <a:ext cx="3457800" cy="1683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6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7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8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20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ftr" idx="9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0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63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ftr" idx="1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ounded Rectangle 15"/>
          <p:cNvSpPr/>
          <p:nvPr/>
        </p:nvSpPr>
        <p:spPr>
          <a:xfrm>
            <a:off x="247680" y="228600"/>
            <a:ext cx="942012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9"/>
          <p:cNvGrpSpPr/>
          <p:nvPr/>
        </p:nvGrpSpPr>
        <p:grpSpPr>
          <a:xfrm>
            <a:off x="228600" y="5354640"/>
            <a:ext cx="9450360" cy="1330200"/>
            <a:chOff x="228600" y="5354640"/>
            <a:chExt cx="9450360" cy="1330200"/>
          </a:xfrm>
        </p:grpSpPr>
        <p:sp>
          <p:nvSpPr>
            <p:cNvPr id="306" name="Freeform 14"/>
            <p:cNvSpPr/>
            <p:nvPr/>
          </p:nvSpPr>
          <p:spPr>
            <a:xfrm>
              <a:off x="6558840" y="5499720"/>
              <a:ext cx="312012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"/>
            <p:cNvSpPr/>
            <p:nvPr/>
          </p:nvSpPr>
          <p:spPr>
            <a:xfrm>
              <a:off x="2840040" y="5371200"/>
              <a:ext cx="601416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2"/>
            <p:cNvSpPr/>
            <p:nvPr/>
          </p:nvSpPr>
          <p:spPr>
            <a:xfrm>
              <a:off x="3067200" y="5383440"/>
              <a:ext cx="593136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6"/>
            <p:cNvSpPr/>
            <p:nvPr/>
          </p:nvSpPr>
          <p:spPr>
            <a:xfrm>
              <a:off x="6083640" y="5370120"/>
              <a:ext cx="358812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0"/>
            <p:cNvSpPr/>
            <p:nvPr/>
          </p:nvSpPr>
          <p:spPr>
            <a:xfrm>
              <a:off x="228600" y="5354640"/>
              <a:ext cx="94503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047E-85ED-4B4E-B497-2B13CE0A20C5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1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1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6EB7-651A-44CF-9CD1-12223FCFC334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354" name="Freeform 14"/>
            <p:cNvSpPr/>
            <p:nvPr/>
          </p:nvSpPr>
          <p:spPr>
            <a:xfrm>
              <a:off x="6550920" y="1824480"/>
              <a:ext cx="31161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8"/>
            <p:cNvSpPr/>
            <p:nvPr/>
          </p:nvSpPr>
          <p:spPr>
            <a:xfrm>
              <a:off x="2836800" y="1695960"/>
              <a:ext cx="600660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3063600" y="1708200"/>
              <a:ext cx="592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6"/>
            <p:cNvSpPr/>
            <p:nvPr/>
          </p:nvSpPr>
          <p:spPr>
            <a:xfrm>
              <a:off x="6076440" y="1694880"/>
              <a:ext cx="358380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16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B4BF-99CC-49E6-BF8A-EDBE1B8E4524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17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18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ADD1-2FAE-4748-972F-C7C8C990D0EC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72880" y="259920"/>
            <a:ext cx="8855280" cy="626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pl-PL" sz="4000" spc="-1" strike="noStrike">
                <a:solidFill>
                  <a:srgbClr val="ffffff"/>
                </a:solidFill>
                <a:latin typeface="Candara"/>
              </a:rPr>
              <a:t>Zasady kontraktowania </a:t>
            </a:r>
            <a:br>
              <a:rPr sz="4000"/>
            </a:br>
            <a:r>
              <a:rPr b="0" lang="pl-PL" sz="4000" spc="-1" strike="noStrike">
                <a:solidFill>
                  <a:srgbClr val="ffffff"/>
                </a:solidFill>
                <a:latin typeface="Candara"/>
              </a:rPr>
              <a:t>świadczeń opieki zdrowotnej</a:t>
            </a:r>
            <a:br>
              <a:rPr sz="4000"/>
            </a:br>
            <a:r>
              <a:rPr b="0" lang="pl-PL" sz="4000" spc="-1" strike="noStrike">
                <a:solidFill>
                  <a:srgbClr val="ffffff"/>
                </a:solidFill>
                <a:latin typeface="Candara"/>
              </a:rPr>
              <a:t>2019  </a:t>
            </a:r>
            <a:br>
              <a:rPr sz="4000"/>
            </a:br>
            <a:br>
              <a:rPr sz="4000"/>
            </a:br>
            <a:r>
              <a:rPr b="0" lang="pl-PL" sz="2200" spc="-1" strike="noStrike" u="sng">
                <a:solidFill>
                  <a:srgbClr val="ffffff"/>
                </a:solidFill>
                <a:uFillTx/>
                <a:latin typeface="Candara"/>
              </a:rPr>
              <a:t>w rodzaju</a:t>
            </a:r>
            <a:r>
              <a:rPr b="0" lang="pl-PL" sz="2200" spc="-1" strike="noStrike">
                <a:solidFill>
                  <a:srgbClr val="ffffff"/>
                </a:solidFill>
                <a:latin typeface="Candara"/>
              </a:rPr>
              <a:t>:</a:t>
            </a:r>
            <a:br>
              <a:rPr sz="2200"/>
            </a:br>
            <a:br>
              <a:rPr sz="2200"/>
            </a:br>
            <a:r>
              <a:rPr b="1" lang="pl-PL" sz="2200" spc="-1" strike="noStrike">
                <a:solidFill>
                  <a:srgbClr val="ffffff"/>
                </a:solidFill>
                <a:latin typeface="Candara"/>
              </a:rPr>
              <a:t>ŚWIADCZENIA PIELĘGNACYJNE I OPIEKUŃCZE</a:t>
            </a:r>
            <a:br>
              <a:rPr sz="2200"/>
            </a:br>
            <a:r>
              <a:rPr b="1" lang="pl-PL" sz="2200" spc="-1" strike="noStrike">
                <a:solidFill>
                  <a:srgbClr val="ffffff"/>
                </a:solidFill>
                <a:latin typeface="Candara"/>
              </a:rPr>
              <a:t>W RAMACH OPIEKI DŁUGOTERMINOWEJ </a:t>
            </a:r>
            <a:br>
              <a:rPr sz="2200"/>
            </a:br>
            <a:br>
              <a:rPr sz="2200"/>
            </a:br>
            <a:r>
              <a:rPr b="0" lang="pl-PL" sz="2200" spc="-1" strike="noStrike">
                <a:solidFill>
                  <a:srgbClr val="ffffff"/>
                </a:solidFill>
                <a:latin typeface="Candara"/>
              </a:rPr>
              <a:t>oraz</a:t>
            </a:r>
            <a:br>
              <a:rPr sz="2200"/>
            </a:br>
            <a:br>
              <a:rPr sz="2200"/>
            </a:br>
            <a:r>
              <a:rPr b="1" lang="pl-PL" sz="2200" spc="-1" strike="noStrike">
                <a:solidFill>
                  <a:srgbClr val="ffffff"/>
                </a:solidFill>
                <a:latin typeface="Candara"/>
              </a:rPr>
              <a:t>OPIEKA PALIATYWNA I HOSPICYJNA </a:t>
            </a:r>
            <a:br>
              <a:rPr sz="2200"/>
            </a:br>
            <a:br>
              <a:rPr sz="2200"/>
            </a:br>
            <a:r>
              <a:rPr b="0" lang="pl-PL" sz="4000" spc="-1" strike="noStrike">
                <a:solidFill>
                  <a:srgbClr val="ffffff"/>
                </a:solidFill>
                <a:latin typeface="Candara"/>
              </a:rPr>
              <a:t>- aspekty formalno-prawne</a:t>
            </a:r>
            <a:br>
              <a:rPr sz="2200"/>
            </a:br>
            <a:br>
              <a:rPr sz="2200"/>
            </a:br>
            <a:br>
              <a:rPr sz="22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rostokąt 1"/>
          <p:cNvSpPr/>
          <p:nvPr/>
        </p:nvSpPr>
        <p:spPr>
          <a:xfrm>
            <a:off x="200160" y="1166760"/>
            <a:ext cx="9289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§ 14. 1. Oferta w formie pisemnej powinna zawierać następujące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okumenty i oświadczen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świadczenie oferenta o wpisach do rejestrów, według wzoru stanowiącego załącznik nr 2 do zarządzen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) w przypadku oferentów wykonujących działalność leczniczą w formie spółki cywilnej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– kopię umowy spółki lub wyciąg z tej umowy zawierający postanowienie o zasada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reprezentacji spółki albo uchwałę wspólników spółki cywilnej w przedmiocie zasad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reprezentacji spółki lub kopie pełnomocnictw udzielonych przez pozostał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wspólników do prowadzenia spraw spółki wykraczających poza zwykłe czynności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unkty 3-5 dotyczą leczenia uzdrowiskowego, rehabilitacji leczniczej i  ratownictwa medycznego (zostały pominięte w tej prezentacj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ole tekstowe 1"/>
          <p:cNvSpPr/>
          <p:nvPr/>
        </p:nvSpPr>
        <p:spPr>
          <a:xfrm>
            <a:off x="776160" y="549360"/>
            <a:ext cx="856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Oświadczenie oferenta o wpisach do rejestrów, według wzoru stanowiącego </a:t>
            </a:r>
            <a:r>
              <a:rPr b="1" lang="pl-PL" sz="1600" spc="-1" strike="noStrike">
                <a:solidFill>
                  <a:srgbClr val="000000"/>
                </a:solidFill>
                <a:latin typeface="Candara"/>
              </a:rPr>
              <a:t>załącznik nr 2 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do zarządzenia nr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18/2017/DSOZ z dnia 14 marca 2017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rostokąt 4"/>
          <p:cNvSpPr/>
          <p:nvPr/>
        </p:nvSpPr>
        <p:spPr>
          <a:xfrm>
            <a:off x="776160" y="1989000"/>
            <a:ext cx="8569440" cy="23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Picture 2" descr=""/>
          <p:cNvPicPr/>
          <p:nvPr/>
        </p:nvPicPr>
        <p:blipFill>
          <a:blip r:embed="rId1"/>
          <a:stretch/>
        </p:blipFill>
        <p:spPr>
          <a:xfrm>
            <a:off x="1424160" y="1285920"/>
            <a:ext cx="6841800" cy="54561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rostokąt 1"/>
          <p:cNvSpPr/>
          <p:nvPr/>
        </p:nvSpPr>
        <p:spPr>
          <a:xfrm>
            <a:off x="2526480" y="147600"/>
            <a:ext cx="43610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862aa"/>
                </a:solidFill>
                <a:latin typeface="Arial"/>
              </a:rPr>
              <a:t>Z jakich dokumentów składa się of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ole tekstowe 2"/>
          <p:cNvSpPr/>
          <p:nvPr/>
        </p:nvSpPr>
        <p:spPr>
          <a:xfrm>
            <a:off x="776160" y="701640"/>
            <a:ext cx="8569440" cy="24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ndara"/>
              </a:rPr>
              <a:t>c.d. </a:t>
            </a:r>
            <a:r>
              <a:rPr b="1" lang="pl-PL" sz="1700" spc="-1" strike="noStrike" u="sng">
                <a:solidFill>
                  <a:srgbClr val="000000"/>
                </a:solidFill>
                <a:uFillTx/>
                <a:latin typeface="Candara"/>
              </a:rPr>
              <a:t>Dokumenty i oświadczenia (składane do wszystkich postępowań) : </a:t>
            </a:r>
            <a:r>
              <a:rPr b="1" lang="pl-PL" sz="1700" spc="-1" strike="noStrike">
                <a:solidFill>
                  <a:srgbClr val="000000"/>
                </a:solidFill>
                <a:latin typeface="Candara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opię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olis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lub innego dokumentu potwierdzającego zawarcie przez oferenta umowy ubezpieczenia odpowiedzialności cywilnej oferenta za szkody wyrządzone w związku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 udzielaniem świadczeń w zakresie przedmiotu postępowania na okres obowiązywania umowy;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oferent może złożyć także umowę przedwstępną (promesę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 lub inny dokument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tym także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oświadczenie, stwierdzające, że umowa ubezpieczenia odpowiedzialności cywilnej zostanie zawarta na okres obowiązywania umow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ole tekstowe 3"/>
          <p:cNvSpPr/>
          <p:nvPr/>
        </p:nvSpPr>
        <p:spPr>
          <a:xfrm>
            <a:off x="0" y="3068640"/>
            <a:ext cx="8848800" cy="29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Obowiązkowe ubezpieczenie odpowiedzialności cywilnej, stosowane odpowiednio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do formy prowadzonej działalności, wydane na podstawi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Rozporządzenia Ministra Finansów z dnia 22 grudnia 2011 r. w sprawie obowiązkowego ubezpieczenie odpowiedzialności cywilnej </a:t>
            </a: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podmiotu wykonującego działalność lecznicz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(Dz. U. z 2011 r., Nr 293, poz. 1729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lbo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Rozporządzenia Ministra Finansów z dnia 22 grudnia 2011 r. w sprawie obowiązkowego ubezpieczenia odpowiedzialności cywilnej </a:t>
            </a: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świadczeniodawcy niebędącego podmiotem wykonującym działalność leczniczą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udzielającego świadczeń opieki zdrowotnej (Dz. U. z 2011 r., Nr 293, poz. 172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ole tekstowe 2"/>
          <p:cNvSpPr/>
          <p:nvPr/>
        </p:nvSpPr>
        <p:spPr>
          <a:xfrm>
            <a:off x="3844800" y="1133640"/>
            <a:ext cx="1727280" cy="36828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bowiązk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ole tekstowe 4"/>
          <p:cNvSpPr/>
          <p:nvPr/>
        </p:nvSpPr>
        <p:spPr>
          <a:xfrm>
            <a:off x="920880" y="1989000"/>
            <a:ext cx="2160360" cy="687960"/>
          </a:xfrm>
          <a:prstGeom prst="rect">
            <a:avLst/>
          </a:prstGeom>
          <a:solidFill>
            <a:srgbClr val="8fb5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OC podmiotu wykonującego działalność lecznicz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ole tekstowe 5"/>
          <p:cNvSpPr/>
          <p:nvPr/>
        </p:nvSpPr>
        <p:spPr>
          <a:xfrm>
            <a:off x="6969240" y="1944720"/>
            <a:ext cx="2087280" cy="885960"/>
          </a:xfrm>
          <a:prstGeom prst="rect">
            <a:avLst/>
          </a:prstGeom>
          <a:solidFill>
            <a:srgbClr val="8fb5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OC świadczeniodawcy niebędącego podmiotem wykonującym działalność lecznicz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AutoShape 4"/>
          <p:cNvSpPr/>
          <p:nvPr/>
        </p:nvSpPr>
        <p:spPr>
          <a:xfrm>
            <a:off x="2087640" y="189000"/>
            <a:ext cx="5976720" cy="57600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Ubezpieczenia odpowiedzialności cywilnej - medycz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8" name="Łącznik prosty ze strzałką 8"/>
          <p:cNvCxnSpPr/>
          <p:nvPr/>
        </p:nvCxnSpPr>
        <p:spPr>
          <a:xfrm>
            <a:off x="5816520" y="1503000"/>
            <a:ext cx="1153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9" name="Łącznik prosty ze strzałką 10"/>
          <p:cNvCxnSpPr/>
          <p:nvPr/>
        </p:nvCxnSpPr>
        <p:spPr>
          <a:xfrm flipH="1">
            <a:off x="2512440" y="1503000"/>
            <a:ext cx="10357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80" name="Łącznik prosty ze strzałką 12"/>
          <p:cNvCxnSpPr/>
          <p:nvPr/>
        </p:nvCxnSpPr>
        <p:spPr>
          <a:xfrm>
            <a:off x="4708080" y="85860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81" name="pole tekstowe 14"/>
          <p:cNvSpPr/>
          <p:nvPr/>
        </p:nvSpPr>
        <p:spPr>
          <a:xfrm>
            <a:off x="1179360" y="2881440"/>
            <a:ext cx="2665440" cy="58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OC lekarza lub lekarza dentys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(indywidualna/specjalistyczna praktyka lekarska)  (SG 75.000 euro/3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Łącznik prostoliniowy 16"/>
          <p:cNvSpPr/>
          <p:nvPr/>
        </p:nvSpPr>
        <p:spPr>
          <a:xfrm>
            <a:off x="1014480" y="2681280"/>
            <a:ext cx="0" cy="30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Łącznik prostoliniowy 18"/>
          <p:cNvSpPr/>
          <p:nvPr/>
        </p:nvSpPr>
        <p:spPr>
          <a:xfrm flipV="1">
            <a:off x="1014480" y="3173040"/>
            <a:ext cx="16488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rostokąt 19"/>
          <p:cNvSpPr/>
          <p:nvPr/>
        </p:nvSpPr>
        <p:spPr>
          <a:xfrm>
            <a:off x="1179360" y="3613320"/>
            <a:ext cx="2718000" cy="73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OC lekarza lub lekarza dentysty (spół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cywilna, spółka jawna, spółka partnerska jako grupowa praktyka lekarska) (SG 75.000 euro/3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Łącznik prostoliniowy 20"/>
          <p:cNvSpPr/>
          <p:nvPr/>
        </p:nvSpPr>
        <p:spPr>
          <a:xfrm flipV="1">
            <a:off x="1014480" y="3981600"/>
            <a:ext cx="164880" cy="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rostokąt 30"/>
          <p:cNvSpPr/>
          <p:nvPr/>
        </p:nvSpPr>
        <p:spPr>
          <a:xfrm>
            <a:off x="1179360" y="4530600"/>
            <a:ext cx="2719440" cy="734760"/>
          </a:xfrm>
          <a:prstGeom prst="rect">
            <a:avLst/>
          </a:prstGeom>
          <a:noFill/>
          <a:ln w="9360">
            <a:solidFill>
              <a:srgbClr val="073e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OC pielęgniarki lub położnej (indywidualna/specjalistyczna prakty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pielęgniarki lub położnej (SG 30.000 euro/1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Łącznik prostoliniowy 37"/>
          <p:cNvSpPr/>
          <p:nvPr/>
        </p:nvSpPr>
        <p:spPr>
          <a:xfrm flipV="1">
            <a:off x="1014480" y="4900680"/>
            <a:ext cx="164880" cy="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Łącznik prostoliniowy 44"/>
          <p:cNvSpPr/>
          <p:nvPr/>
        </p:nvSpPr>
        <p:spPr>
          <a:xfrm>
            <a:off x="3081240" y="256536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Łącznik prostoliniowy 46"/>
          <p:cNvSpPr/>
          <p:nvPr/>
        </p:nvSpPr>
        <p:spPr>
          <a:xfrm>
            <a:off x="4016520" y="2565360"/>
            <a:ext cx="0" cy="239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rostokąt 50"/>
          <p:cNvSpPr/>
          <p:nvPr/>
        </p:nvSpPr>
        <p:spPr>
          <a:xfrm>
            <a:off x="4264200" y="2406600"/>
            <a:ext cx="2260440" cy="982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OC pielęgniarki lub położnej (spół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cywilna, spółka jawna, albo spół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partnerska jako grupowa prakty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pielęgniarki lub położne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(SG 30.000 euro/1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Łącznik prostoliniowy 55"/>
          <p:cNvSpPr/>
          <p:nvPr/>
        </p:nvSpPr>
        <p:spPr>
          <a:xfrm flipH="1">
            <a:off x="4005000" y="2898720"/>
            <a:ext cx="25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rostokąt 57"/>
          <p:cNvSpPr/>
          <p:nvPr/>
        </p:nvSpPr>
        <p:spPr>
          <a:xfrm>
            <a:off x="4270320" y="3613320"/>
            <a:ext cx="2273400" cy="76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OC pielęgniarki lub położne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(indywidualna/specjalistyczna praktyka pielęgniarki lub położne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(SG 30.000 euro/1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Łącznik prostoliniowy 58"/>
          <p:cNvSpPr/>
          <p:nvPr/>
        </p:nvSpPr>
        <p:spPr>
          <a:xfrm flipH="1">
            <a:off x="4022640" y="399744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rostokąt 65"/>
          <p:cNvSpPr/>
          <p:nvPr/>
        </p:nvSpPr>
        <p:spPr>
          <a:xfrm>
            <a:off x="4270320" y="4530600"/>
            <a:ext cx="2613240" cy="85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OC podmiotu leczniczego (stacjonarne i całodobowe świadczenia zdrowotne inne niż szpitalne oraz w zakresie ambulatoryjnych świadczeń zdrowotnych (SG 75.000 euro/3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Łącznik prostoliniowy 67"/>
          <p:cNvSpPr/>
          <p:nvPr/>
        </p:nvSpPr>
        <p:spPr>
          <a:xfrm>
            <a:off x="4022640" y="496080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rostokąt 71"/>
          <p:cNvSpPr/>
          <p:nvPr/>
        </p:nvSpPr>
        <p:spPr>
          <a:xfrm>
            <a:off x="7400880" y="3121200"/>
            <a:ext cx="2087640" cy="73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Osoby, które uzyskały fachow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uprawnienia do udzielania świadczeń zdrowotnych (SG 30.000 euro/1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Łącznik prostoliniowy 73"/>
          <p:cNvSpPr/>
          <p:nvPr/>
        </p:nvSpPr>
        <p:spPr>
          <a:xfrm>
            <a:off x="7113600" y="2836800"/>
            <a:ext cx="0" cy="200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Łącznik prostoliniowy 75"/>
          <p:cNvSpPr/>
          <p:nvPr/>
        </p:nvSpPr>
        <p:spPr>
          <a:xfrm flipH="1">
            <a:off x="7113600" y="3490920"/>
            <a:ext cx="28728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Łącznik prostoliniowy 78"/>
          <p:cNvSpPr/>
          <p:nvPr/>
        </p:nvSpPr>
        <p:spPr>
          <a:xfrm>
            <a:off x="7113600" y="48387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rostokąt 79"/>
          <p:cNvSpPr/>
          <p:nvPr/>
        </p:nvSpPr>
        <p:spPr>
          <a:xfrm>
            <a:off x="7400880" y="4465800"/>
            <a:ext cx="2087640" cy="100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Podmioty realizujące czynności z zakresu zaopatrzenia w środki pomocnicze i wyroby medyczne będące przedmiotami ortopedycznymi (SG 10.000 euro/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rostokąt 83"/>
          <p:cNvSpPr/>
          <p:nvPr/>
        </p:nvSpPr>
        <p:spPr>
          <a:xfrm>
            <a:off x="1251000" y="5616720"/>
            <a:ext cx="495288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stacjonarne i całodobowe świadczenia zdrowotne – SZPITALNE – (SG 100.000 euro w odniesieniu do 1 zdarzenia /500.000 euro – w odniesieniu do wszystkich zdarzeń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Łącznik prostoliniowy 85"/>
          <p:cNvSpPr/>
          <p:nvPr/>
        </p:nvSpPr>
        <p:spPr>
          <a:xfrm flipH="1" flipV="1">
            <a:off x="1014120" y="5740200"/>
            <a:ext cx="2365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rostokąt 1"/>
          <p:cNvSpPr/>
          <p:nvPr/>
        </p:nvSpPr>
        <p:spPr>
          <a:xfrm>
            <a:off x="2526480" y="147600"/>
            <a:ext cx="43610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862aa"/>
                </a:solidFill>
                <a:latin typeface="Arial"/>
              </a:rPr>
              <a:t>Z jakich dokumentów składa się of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ole tekstowe 2"/>
          <p:cNvSpPr/>
          <p:nvPr/>
        </p:nvSpPr>
        <p:spPr>
          <a:xfrm>
            <a:off x="344520" y="673200"/>
            <a:ext cx="9217080" cy="66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000000"/>
                </a:solidFill>
                <a:latin typeface="Candara"/>
              </a:rPr>
              <a:t>c.d. </a:t>
            </a:r>
            <a:r>
              <a:rPr b="1" lang="pl-PL" sz="1700" spc="-1" strike="noStrike" u="sng">
                <a:solidFill>
                  <a:srgbClr val="000000"/>
                </a:solidFill>
                <a:uFillTx/>
                <a:latin typeface="Candara"/>
              </a:rPr>
              <a:t>Dokumenty i oświadczenia (składane do wszystkich postępowań)</a:t>
            </a:r>
            <a:r>
              <a:rPr b="1" lang="pl-PL" sz="1700" spc="-1" strike="noStrike">
                <a:solidFill>
                  <a:srgbClr val="000000"/>
                </a:solidFill>
                <a:latin typeface="Candara"/>
              </a:rPr>
              <a:t> : 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7) W przypadku, gdy w warunkach zawierania umów lub we wzorze umowy, dopuszczone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  jest zlecenie podwykonawcom udzielania świadczeń opieki zdrowotnej objętych umową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  - kopię zawartej umowy z podwykonawcą (bez postanowień określających finansowanie)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  albo zobowiązanie podwykonawcy do zawarcia umowy z oferentem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mowa zawarta z podwykonawc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albo  zobowiązanie podwykonawcy do zawarcia umowy z oferente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usi zawierać zastrzeżenie o prawie Oddziału Funduszu do przeprowadzenia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kontroli podwykonawc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70c0"/>
                </a:solidFill>
                <a:latin typeface="Arial"/>
              </a:rPr>
              <a:t>na zasadach określonych w ustawie z dnia 27 sierpnia 2004 rok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70c0"/>
                </a:solidFill>
                <a:latin typeface="Arial"/>
              </a:rPr>
              <a:t>o świadczeniach opieki zdrowotnej finansowanych ze środków publicznych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70c0"/>
                </a:solidFill>
                <a:latin typeface="Arial"/>
              </a:rPr>
              <a:t>w zakresie wynikającym z umowy zawartej z dyrektorem oddziału Fundusz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BRAK POWYŻSZEJ KLAUZULI TRAKTOWANY JEST JAKO BRAK FORMALNY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2060"/>
                </a:solidFill>
                <a:latin typeface="Arial"/>
              </a:rPr>
              <a:t>Brak umów wymienionych w wykazie  TRAKTOWANY JEST JAKO BRAK FORMAL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 umowie podwykonawczej musi zostać jednocześnie określony przedmiot powykonywanych świadczeń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rostokąt 1"/>
          <p:cNvSpPr/>
          <p:nvPr/>
        </p:nvSpPr>
        <p:spPr>
          <a:xfrm>
            <a:off x="2526480" y="147600"/>
            <a:ext cx="43610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862aa"/>
                </a:solidFill>
                <a:latin typeface="Arial"/>
              </a:rPr>
              <a:t>Z jakich dokumentów składa się of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ole tekstowe 2"/>
          <p:cNvSpPr/>
          <p:nvPr/>
        </p:nvSpPr>
        <p:spPr>
          <a:xfrm>
            <a:off x="776160" y="701640"/>
            <a:ext cx="8569440" cy="33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 u="sng">
                <a:solidFill>
                  <a:srgbClr val="000000"/>
                </a:solidFill>
                <a:uFillTx/>
                <a:latin typeface="Candara"/>
              </a:rPr>
              <a:t>Dokumenty i oświadczenia (składane do wszystkich postępowań) : </a:t>
            </a:r>
            <a:r>
              <a:rPr b="1" lang="pl-PL" sz="1700" spc="-1" strike="noStrike">
                <a:solidFill>
                  <a:srgbClr val="000000"/>
                </a:solidFill>
                <a:latin typeface="Candara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8) W przypadku, gdy oferent nie przedstawi kopii umów z podwykonawcami – oświadczenie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że będzie wykonywał umowę samodzielnie bez zlecania podwykonawcom udzielania świadczeń będących przedmiotem umowy</a:t>
            </a:r>
            <a:r>
              <a:rPr b="0" lang="pl-PL" sz="17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przypadku, gdy w warunkach zawierania umów lub we wzorze umowy, dopuszczone jest zlecanie podwykonawcom udzielania świadczeń opieki zdrowotnej objętych umową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opię zawartej umowy z podwykonawcą (bez postanowień określających finansowanie) albo zobowiązanie podwykonawcy do zawarcia umowy z oferentem, zawierające zastrzeżenie o prawie Funduszu do przeprowadzenia kontroli na zasadach określonych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ustawie, w zakresie wynikającym z umowy zawartej z dyrektorem oddziałem Fundusz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4"/>
          <p:cNvSpPr/>
          <p:nvPr/>
        </p:nvSpPr>
        <p:spPr>
          <a:xfrm>
            <a:off x="961920" y="4292640"/>
            <a:ext cx="3745080" cy="1800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 u="sng">
                <a:solidFill>
                  <a:srgbClr val="000000"/>
                </a:solidFill>
                <a:uFillTx/>
                <a:latin typeface="Arial"/>
              </a:rPr>
              <a:t>Samodzielna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 realizacja świadczeń przez Oferenta - wymagan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Arial"/>
              </a:rPr>
              <a:t>OŚWIADCZENIE O SAMODZIELNEJ REALIZACJI ŚWIADCZEŃ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AutoShape 4"/>
          <p:cNvSpPr/>
          <p:nvPr/>
        </p:nvSpPr>
        <p:spPr>
          <a:xfrm>
            <a:off x="5060880" y="4292640"/>
            <a:ext cx="4213440" cy="194472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ealizacja świadczeń przy udziale </a:t>
            </a:r>
            <a:r>
              <a:rPr b="1" lang="pl-PL" sz="1500" spc="-1" strike="noStrike" u="sng">
                <a:solidFill>
                  <a:srgbClr val="000000"/>
                </a:solidFill>
                <a:uFillTx/>
                <a:latin typeface="Arial"/>
              </a:rPr>
              <a:t>podwykonawców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-  wymagan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YKAZ PODWYKONAWCÓW ORAZ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UMOWY Z PODWYKONAWCAMI ZAWIERAJĄCE ZASTRZEŻENIE O PRAWIE FUNDUSZU DO PRZEPROWADZENIA KONTROL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rostokąt 2"/>
          <p:cNvSpPr/>
          <p:nvPr/>
        </p:nvSpPr>
        <p:spPr>
          <a:xfrm>
            <a:off x="2526480" y="147600"/>
            <a:ext cx="43610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862aa"/>
                </a:solidFill>
                <a:latin typeface="Arial"/>
              </a:rPr>
              <a:t>Z jakich dokumentów składa się of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ole tekstowe 3"/>
          <p:cNvSpPr/>
          <p:nvPr/>
        </p:nvSpPr>
        <p:spPr>
          <a:xfrm>
            <a:off x="776160" y="701640"/>
            <a:ext cx="856944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 u="sng">
                <a:solidFill>
                  <a:srgbClr val="000000"/>
                </a:solidFill>
                <a:uFillTx/>
                <a:latin typeface="Candara"/>
              </a:rPr>
              <a:t>Oferta w formie pisemnej powinna zawierać następujące dokumenty i oświadczenia (składane do wszystkich postępowań) : </a:t>
            </a:r>
            <a:r>
              <a:rPr b="1" lang="pl-PL" sz="1700" spc="-1" strike="noStrike">
                <a:solidFill>
                  <a:srgbClr val="000000"/>
                </a:solidFill>
                <a:latin typeface="Candara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9) Oświadczenie zgodne ze wzorem określonym w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załączniku nr 3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o zarządzenia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 oświadczenie  świadczeniodawcy o zapoznaniu się z istotnymi dokumentami niezbędnymi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o przeprowadzenia postępowania oraz do posiadania tytułów prawnych do korzystania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 lokali, sprzętu, aparatury medycznej i środków transportu w miejscach udzielania świadcze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1" name="Picture 9" descr=""/>
          <p:cNvPicPr/>
          <p:nvPr/>
        </p:nvPicPr>
        <p:blipFill>
          <a:blip r:embed="rId1"/>
          <a:stretch/>
        </p:blipFill>
        <p:spPr>
          <a:xfrm>
            <a:off x="4937040" y="3643200"/>
            <a:ext cx="28800" cy="28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2" name="Picture 3" descr=""/>
          <p:cNvPicPr/>
          <p:nvPr/>
        </p:nvPicPr>
        <p:blipFill>
          <a:blip r:embed="rId1"/>
          <a:stretch/>
        </p:blipFill>
        <p:spPr>
          <a:xfrm>
            <a:off x="1352520" y="260280"/>
            <a:ext cx="7272360" cy="6597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rostokąt 1"/>
          <p:cNvSpPr/>
          <p:nvPr/>
        </p:nvSpPr>
        <p:spPr>
          <a:xfrm>
            <a:off x="560520" y="1484280"/>
            <a:ext cx="885636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400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0) w przypadku, gdy oferent jest reprezentowany przez pełnomocnika –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ełnomocnictwo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do składania oświadczeń woli w imieniu oferenta, w szczególności do złożenia oferty, udzielone przez osobę lub osoby, których prawo do reprezentowania oferenta wynika z dokumentów przedstawionych wraz z ofert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1) pełnomocnictwo, o którym mowa w art. 132a ust. 2 ustawy, o ile są spełnione przesłanki określone w art. 132a ustawy (gdy świadczeniodawcy ubiegają się wspólnie o zawarcie umow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2) w przypadku, gdy oferent wyraża zgodę na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doręczanie przez komisję konkursową oświadczeń i zawiadomień za pośrednictwem środków komunikacji elektronicznej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 zgodę oferenta, o której mowa w § 5 ust. 3 rozporządzenia ministra właściwego do spraw zdrowia wydanego na podstawie art.139 ust. 9 ustawy. Oferent wyraża zgodę w szczególności przez wypełnienie i załączenie do oferty formularza, którego wzór określony jest w załączniku nr 9 do zarządzeni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3) inne dokumenty lub oświadczenia, jeżeli obowiązek dołączenia ich do oferty został określony w warunkach zawierania umó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ośnik elektroniczny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opie dokumentów muszą być poświadczone za zgodność z oryginałem przez osoby uprawnione do reprezentowania oferen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rostokąt 2"/>
          <p:cNvSpPr/>
          <p:nvPr/>
        </p:nvSpPr>
        <p:spPr>
          <a:xfrm>
            <a:off x="1143000" y="266760"/>
            <a:ext cx="80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.d.dokumenty i oświadczenia (składane do wszystkich postępow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rostokąt 1"/>
          <p:cNvSpPr/>
          <p:nvPr/>
        </p:nvSpPr>
        <p:spPr>
          <a:xfrm>
            <a:off x="488880" y="476280"/>
            <a:ext cx="892800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W przypadku, gdy w dniu składania oferty oddział Funduszu jest w  posiadaniu dokumentów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o których mowa w § 14 ust. 1 pkt 2, 3 i 6 Zarządzenia nr 18/2017/DSOZ z dnia 14 marca 2017 roku (dotyczy tylko  </a:t>
            </a:r>
            <a:r>
              <a:rPr b="1" lang="pl-PL" sz="1600" spc="-1" strike="noStrike" u="sng">
                <a:solidFill>
                  <a:srgbClr val="000000"/>
                </a:solidFill>
                <a:uFillTx/>
                <a:latin typeface="Candara"/>
              </a:rPr>
              <a:t>kopii umowy spółki cywilnej, </a:t>
            </a:r>
            <a:r>
              <a:rPr b="1" lang="pl-PL" sz="1600" spc="-1" strike="noStrike">
                <a:solidFill>
                  <a:srgbClr val="000000"/>
                </a:solidFill>
                <a:latin typeface="Candara"/>
              </a:rPr>
              <a:t>kopia umowy na korzystanie z usług świadczonych przez zakład posiadający koncesję na eksploatacje naturalnych surowców leczniczych</a:t>
            </a:r>
            <a:r>
              <a:rPr b="1" lang="pl-PL" sz="1600" spc="-1" strike="noStrike" u="sng">
                <a:solidFill>
                  <a:srgbClr val="000000"/>
                </a:solidFill>
                <a:uFillTx/>
                <a:latin typeface="Candara"/>
              </a:rPr>
              <a:t>, kopii polisy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)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a potwierdzony w nich stan prawny lub faktyczny nie uległ zmianie, oferent może złożyć oświadczenie zgodne ze wzorem określonym w załączniku nr 4 ww. do zarządze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rostokąt 1"/>
          <p:cNvSpPr/>
          <p:nvPr/>
        </p:nvSpPr>
        <p:spPr>
          <a:xfrm>
            <a:off x="987840" y="291960"/>
            <a:ext cx="79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6600"/>
                </a:solidFill>
                <a:latin typeface="Arial"/>
              </a:rPr>
              <a:t>Podstawy prawne przeprowadzenia procesu kontraktowania świadcze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ole tekstowe 2"/>
          <p:cNvSpPr/>
          <p:nvPr/>
        </p:nvSpPr>
        <p:spPr>
          <a:xfrm>
            <a:off x="57240" y="662040"/>
            <a:ext cx="9575640" cy="63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Ustawa z dnia 27 sierpnia 2004 r. o świadczeniach opieki zdrowotnej finansowan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e środków publicznych (tj. Dz.U. 2018 poz. 1510 z późn. zm.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Ustawa z dnia 15 kwietnia 2011 r. o działalności leczniczej (tj. Dz.U. 2018 r. poz. 16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Rozporządzenie Ministra Zdrowia z dnia 8 września 2015 r. w sprawie ogólnych warunków umów o udzielanie świadczeń opieki zdrowotnej (Dz. U. z 2016 r., poz.1146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 późn. zm.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Rozporządzenie Ministra Zdrowia z dnia 22 grudnia 2014 r. w sprawie sposobu ogłaszania o postępowaniu w sprawie zawarcia umowy o udzielanie świadczeń opieki zdrowotnej, składania ofert, powoływania i powoływania komisji konkursowych,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jej zadań oraz trybu pracy (Dz. U. 2018, poz. 1897)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arządzenie nr 18/2017/DSOZ Prezesa Narodowego Funduszu Zdrowia z dni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14 marca 2017 r. w sprawie warunków postępowania dotyczącego zawierania umów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 udzielanie świadczeń opieki zdrowotnej (z późn. zm.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ARZĄDZENIE WEWNĘTRZNE DYREKTORA ŚLĄSKIEGO ODDZIAŁU WOJEWÓDZKIEGO NARODOWEGO FUNDUSZU ZDROWIA W KATOWICA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Nr 179/2015 z dnia 5 listopada 2015 r. w sprawie wprowadzenia zasad weryfikacji oferentów uczestniczących w postępowaniach poprzedzających zawarcie umów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 udzielanie świadczeń opieki zdrowotn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rostokąt 1"/>
          <p:cNvSpPr/>
          <p:nvPr/>
        </p:nvSpPr>
        <p:spPr>
          <a:xfrm>
            <a:off x="849240" y="692280"/>
            <a:ext cx="8496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Picture 2" descr=""/>
          <p:cNvPicPr/>
          <p:nvPr/>
        </p:nvPicPr>
        <p:blipFill>
          <a:blip r:embed="rId1"/>
          <a:stretch/>
        </p:blipFill>
        <p:spPr>
          <a:xfrm>
            <a:off x="1928880" y="476280"/>
            <a:ext cx="6480000" cy="5905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rostokąt 1"/>
          <p:cNvSpPr/>
          <p:nvPr/>
        </p:nvSpPr>
        <p:spPr>
          <a:xfrm>
            <a:off x="920880" y="620640"/>
            <a:ext cx="82803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Candara"/>
              </a:rPr>
              <a:t>Załącznik nr 6 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do warunków postępowa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tj.: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</a:rPr>
              <a:t>Wzór podpisu i parafy osoby podpisującej formularz ofertowy i ofert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Picture 14" descr="MC900379929[1]"/>
          <p:cNvPicPr/>
          <p:nvPr/>
        </p:nvPicPr>
        <p:blipFill>
          <a:blip r:embed="rId1"/>
          <a:stretch/>
        </p:blipFill>
        <p:spPr>
          <a:xfrm rot="169200">
            <a:off x="1767960" y="3057480"/>
            <a:ext cx="1119240" cy="2597040"/>
          </a:xfrm>
          <a:prstGeom prst="rect">
            <a:avLst/>
          </a:prstGeom>
          <a:ln w="0">
            <a:noFill/>
          </a:ln>
        </p:spPr>
      </p:pic>
      <p:pic>
        <p:nvPicPr>
          <p:cNvPr id="920" name="Picture 4" descr=""/>
          <p:cNvPicPr/>
          <p:nvPr/>
        </p:nvPicPr>
        <p:blipFill>
          <a:blip r:embed="rId2"/>
          <a:stretch/>
        </p:blipFill>
        <p:spPr>
          <a:xfrm>
            <a:off x="3368520" y="1844640"/>
            <a:ext cx="5688000" cy="4021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/>
          </p:nvPr>
        </p:nvSpPr>
        <p:spPr>
          <a:xfrm>
            <a:off x="415440" y="1413000"/>
            <a:ext cx="8858520" cy="50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Zgodnie z art. 135 ust. 2 pkt 2 ustawy z dnia 27 sierpnia 2004 r. o świadczeniach opieki zdrowotnej finansowanych ze środków publicznych, oferent może złożyć oświadczenie, w którym wnosi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o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Candara"/>
              </a:rPr>
              <a:t>zastrzeżenie informacji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znajdujących się w ofercie, stanowiących tajemnicę przedsiębiorcy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73e87"/>
                </a:solidFill>
                <a:latin typeface="Candara"/>
              </a:rPr>
              <a:t>UWAGA!</a:t>
            </a:r>
            <a:r>
              <a:rPr b="1" lang="pl-PL" sz="1800" spc="-1" strike="noStrike">
                <a:solidFill>
                  <a:srgbClr val="ff0000"/>
                </a:solidFill>
                <a:latin typeface="Candara"/>
              </a:rPr>
              <a:t>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Candara"/>
              </a:rPr>
              <a:t>NIEDOPUSZCZALNE JEST ZASTRZEŻENIE CAŁEJ OFERTY!!!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title"/>
          </p:nvPr>
        </p:nvSpPr>
        <p:spPr>
          <a:xfrm>
            <a:off x="415440" y="404640"/>
            <a:ext cx="916308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pl-PL" sz="1600" spc="-1" strike="noStrike" u="sng">
                <a:solidFill>
                  <a:srgbClr val="000000"/>
                </a:solidFill>
                <a:uFillTx/>
                <a:latin typeface="Candara"/>
              </a:rPr>
              <a:t>Załącznik nr 8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do warunków postępowania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tj.: </a:t>
            </a:r>
            <a:r>
              <a:rPr b="1" lang="pl-PL" sz="1600" spc="-1" strike="noStrike">
                <a:solidFill>
                  <a:srgbClr val="000000"/>
                </a:solidFill>
                <a:latin typeface="Candara"/>
              </a:rPr>
              <a:t>Oświadczenie oferenta o zastrzeżeniu informacji stanowiących tajemnicę przedsiębiorcy</a:t>
            </a: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rostokąt 2"/>
          <p:cNvSpPr/>
          <p:nvPr/>
        </p:nvSpPr>
        <p:spPr>
          <a:xfrm>
            <a:off x="272880" y="1550880"/>
            <a:ext cx="9433080" cy="44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OŚWIADCZENIE OFERENTA O ZASTRZEŻENIU INFORMACJ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STANOWIĄCYCH TAJEMNICĘ PRZEDSIĘBIOR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Zgodnie z art. 135 ust. 2 pkt 2 ustawy z dnia 27 sierpnia 2004 r. o świadczeniach opieki zdrowotnej finansowanych ze środków publicznych (Dz. U. z 2008 r.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Nr 164, poz.1027, późn. zm.) wnoszę o zastrzeżenie w złożonej przeze mnie ofercie następujących informacji, stanowiących tajemnicę przedsiębiorcy: Element oferty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Zastrzegam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1. Wykaz podwykonawc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2. Wykaz personel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3. Wykaz sprzę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4. Wykaz pojazd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5. Wykaz pomieszcze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6. Wykaz miejsc udzielania świadczeń z danymi identyfikacyjnymi, obejmujący również miejsca udzielania świadczeń przez podwykonawc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7. Ofertę w zakresie liczby i ceny dla przedmiotu postępowania i miejsca udzielania świadcze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8. Harmonogram udzielania świadczeń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Harmonogram pracy personelu lub jego dostępność godzinow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10. Ankiety dotyczące danego postępowania w części zawierającej informacje zastrzeżone, wskazane w l.p. 1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11. Inne, niż wymienione w l.p. 1-10, informacj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/>
          </p:nvPr>
        </p:nvSpPr>
        <p:spPr>
          <a:xfrm>
            <a:off x="415440" y="1341000"/>
            <a:ext cx="885852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 algn="just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Na podstawie § 5 ust. 3 rozporządzenia Ministra Zdrowia z dnia 22 grudnia 2014 r. w sprawie sposobu ogłaszania o postępowaniu w sprawie zawarcia umowy o udzielanie świadczeń opieki zdrowotnej, składania ofert powoływania i odwoływania komisji konkursowej, jej zadań oraz trybu pracy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(Dz. U. poz. 1980, z późn. zm.) </a:t>
            </a:r>
            <a:r>
              <a:rPr b="1" lang="pl-PL" sz="1600" spc="-1" strike="noStrike">
                <a:solidFill>
                  <a:srgbClr val="000000"/>
                </a:solidFill>
                <a:latin typeface="Candara"/>
              </a:rPr>
              <a:t>oferent może wyrazić zgodę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Candara"/>
              </a:rPr>
              <a:t>na doręczanie przez komisję konkursową oświadczeń i zawiadomień za pośrednictwem środków komunikacji elektronicznej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, bez zachowania wymogów dotyczących bezpiecznego podpisu elektronicznego w rozumieniu art. 3 pkt 10 rozporządzenia Parlamentu Europejskiego i Rady (UE) nr 910/2014 z dnia 23 lipca 2014 r. w sprawie identyfikacji elektronicznej i usług zaufania w odniesieniu do transakcji elektronicznych na rynku wewnętrznym oraz uchylającego dyrektywę 1999/93/WE (Dz. Urz. UE L 257 z 28.08.2014, str. 73)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title"/>
          </p:nvPr>
        </p:nvSpPr>
        <p:spPr>
          <a:xfrm>
            <a:off x="415440" y="404280"/>
            <a:ext cx="916308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pl-PL" sz="1600" spc="-1" strike="noStrike" u="sng">
                <a:solidFill>
                  <a:srgbClr val="000000"/>
                </a:solidFill>
                <a:uFillTx/>
                <a:latin typeface="Candara"/>
              </a:rPr>
              <a:t>Załącznik nr 9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do warunków postępowania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tj.: </a:t>
            </a:r>
            <a:r>
              <a:rPr b="1" lang="pl-PL" sz="1600" spc="-1" strike="noStrike">
                <a:solidFill>
                  <a:srgbClr val="000000"/>
                </a:solidFill>
                <a:latin typeface="Candara"/>
              </a:rPr>
              <a:t>ZGODA NA DORĘCZANIE PRZEZ KOMISJĘ KONKURSOWĄ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Candara"/>
              </a:rPr>
              <a:t>OŚWIADCZEŃ I ZAWIADOMIEŃ ZA POŚREDNICTWEM ŚRODKÓW KOMUNIKACJI ELEKTRONICZNEJ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AutoShape 4"/>
          <p:cNvSpPr/>
          <p:nvPr/>
        </p:nvSpPr>
        <p:spPr>
          <a:xfrm>
            <a:off x="920880" y="1125360"/>
            <a:ext cx="8353440" cy="64800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zumie się przez to pisemną, zunifikowaną część oferty zawierającą </a:t>
            </a:r>
            <a:br>
              <a:rPr sz="1600"/>
            </a:br>
            <a:r>
              <a:rPr b="1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fertę rzeczową i cenową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raz z opisem proponowanego potencjału wykonawczego oferenta i odpowiedziami na pytania ankietow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rostokąt 6"/>
          <p:cNvSpPr/>
          <p:nvPr/>
        </p:nvSpPr>
        <p:spPr>
          <a:xfrm>
            <a:off x="2073240" y="523800"/>
            <a:ext cx="61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Formularz ofertow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rostokąt 8"/>
          <p:cNvSpPr/>
          <p:nvPr/>
        </p:nvSpPr>
        <p:spPr>
          <a:xfrm>
            <a:off x="631800" y="1989000"/>
            <a:ext cx="9001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For</a:t>
            </a:r>
            <a:r>
              <a:rPr b="1" lang="pl-PL" sz="1400" spc="-1" strike="noStrike" u="sng">
                <a:solidFill>
                  <a:srgbClr val="000000"/>
                </a:solidFill>
                <a:uFillTx/>
                <a:latin typeface="Calibri"/>
              </a:rPr>
              <a:t>mularz ofertowy zawier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dane identyfikacyjne oferen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wykaz podwykonawców z informacją o umowach podwykonawstwa, w przypadku gdy w warunkach zawierania umów lub we wzorze umowy dopuszczone jest zlecanie podwykonawcom udzielania świadczeń opieki zdrowotnej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wykaz personelu z opisem kompetencji; 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Calibri"/>
              </a:rPr>
              <a:t>oferent obowiązany jest udokumentować gotowość udzielania świadczeń od pierwszego dnia obowiązywania umowy o udzielanie świadczeń opieki zdrowotnej przez każdą z wymienionych w wykazie osób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. Dokumentem potwierdzającym gotowość udzielania świadczeń jest zawarta z oferentem lub podwykonawcą umowa cywilnoprawna, w szczególności umowa o pracę lub pisemne zobowiązanie do zawarcia jednej z ww. umó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wykaz zasobów (sprzętu, pojazdów, pomieszczeń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wykaz miejsc udzielania świadczeń z danymi identyfikacyjnymi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ofertę w zakresie liczby  i ceny dla przedmiotu postępowania i miejsca udzielania świadczeń, w ty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potencjał wykonawczy dla przedmiotu postępowania i miejsca udzielania świadczeń na podstawie wykazów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armonogram udzielania świadczeń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armonogram pracy personelu lub jego ogólną dostępność godzinową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ankiety dotyczące danego postępow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rostokąt 1"/>
          <p:cNvSpPr/>
          <p:nvPr/>
        </p:nvSpPr>
        <p:spPr>
          <a:xfrm>
            <a:off x="849240" y="333360"/>
            <a:ext cx="8207280" cy="72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0000"/>
                </a:solidFill>
                <a:uFillTx/>
                <a:latin typeface="Candara"/>
              </a:rPr>
              <a:t>Do najczęstszych błędów podczas składania oferty zalicza się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składanie niewypełnionych bądź niepodpisanych oświadczeń lub oświadczenie nie zostało podpisane przez osobę uprawnioną do reprezentacji podmiotu składającego ofertę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składanie obligatoryjnych oświadczeń przez oferenta wg nieaktualnych wzorów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podpisów i numeracji stron (podpisane i opatrzone kolejnym numerem muszą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być zarówno formularz ofertowy, jak i wszystkie załączniki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zastrzeżenia o prawie Funduszu do przeprowadzenia kontroli na zasadach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określonych w ustawie z dnia 27 sierpnia 2004 r. o świadczeniach opieki zdrowotnej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finansowanych ze środków publicznych (t.j. DzU 2018 r. poz.1510 z późn. zm.) w zakresie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wynikającym z umowy zawartej z dyrektorem oddziału Funduszu w umowach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z podwykonawcami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załączonych do oferty umów z podwykonawcam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w ofercie szczegółowych danych identyfikacyjnych oferenta bądź przedłożenie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nieaktualnych danych kontaktowych (w ofercie należy podać taki numer telefonu oferenta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który umożliwi możliwie najszybszy i najskuteczniejszy kontakt z oferente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rostokąt 1"/>
          <p:cNvSpPr/>
          <p:nvPr/>
        </p:nvSpPr>
        <p:spPr>
          <a:xfrm>
            <a:off x="849240" y="620640"/>
            <a:ext cx="8207280" cy="59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w przypadku gdy oferent reprezentowany jest przez pełnomocnik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- brak pełnomocnictwa do składania oświadczeń woli w imieniu oferenta, w szczególności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   do złożenia oferty udzielonego przez osobę lub osoby, których prawo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   do reprezentowania oferenta wynika z dokumentów przedstawionych wraz z ofertą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przedłożonego w ofercie załącznika stanowiącego wzór podpisu i paraf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możliwości odczytu treści nośnika elektronicznego przesłanego przez świadczeniodawcę – wersja elektroniczna oferty (oferta w wersji elektronicznej zapisana w niepoprawnym formacie, brak zapisanego pliku na nośniku elektronicznym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nośnika elektronicznego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załączonej w ofercie umowy OC lub umowa OC zawiera niepełny okres ubezpieczenia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w przypadku, gdy oferent wykonywał będzie umowę samodzielnie – brak oświadczenia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o samodzielnym wykonywaniu umowy (bez zlecania podwykonawcom udzielania świadczeń będących przedmiotem umow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rostokąt 5"/>
          <p:cNvSpPr/>
          <p:nvPr/>
        </p:nvSpPr>
        <p:spPr>
          <a:xfrm>
            <a:off x="1639800" y="549360"/>
            <a:ext cx="66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2862aa"/>
                </a:solidFill>
                <a:latin typeface="Candara"/>
              </a:rPr>
              <a:t>System oceny of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AutoShape 4"/>
          <p:cNvSpPr/>
          <p:nvPr/>
        </p:nvSpPr>
        <p:spPr>
          <a:xfrm>
            <a:off x="488880" y="981000"/>
            <a:ext cx="9217080" cy="792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Ocena ofert pod względem </a:t>
            </a:r>
            <a:r>
              <a:rPr b="1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spełniania wymogów formalno – prawnych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dotyczy sprawdzeni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13"/>
          <p:cNvSpPr/>
          <p:nvPr/>
        </p:nvSpPr>
        <p:spPr>
          <a:xfrm>
            <a:off x="1187280" y="1844640"/>
            <a:ext cx="756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Czy oferta nie podlega odrzuceniu lub pozostawieniu bez rozpozn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4"/>
          <p:cNvSpPr/>
          <p:nvPr/>
        </p:nvSpPr>
        <p:spPr>
          <a:xfrm>
            <a:off x="1187280" y="2565360"/>
            <a:ext cx="7561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Czy oferta zawiera wszystkie formularze, załączniki i oświadczenia wymagane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od świadczeniodawcy i określone w materiałach informacyjnych dotyczących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danego postępow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15"/>
          <p:cNvSpPr/>
          <p:nvPr/>
        </p:nvSpPr>
        <p:spPr>
          <a:xfrm>
            <a:off x="1187280" y="3500280"/>
            <a:ext cx="756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Czy wersja elektroniczna formularza ofertowego jest zgodna z wersją papierową formular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16"/>
          <p:cNvSpPr/>
          <p:nvPr/>
        </p:nvSpPr>
        <p:spPr>
          <a:xfrm>
            <a:off x="1187280" y="4292640"/>
            <a:ext cx="756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Czy oferta zawiera wymagane dokumenty formalno-prawne i czy są one zgodne 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ze złożoną ofert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rostokąt 5"/>
          <p:cNvSpPr/>
          <p:nvPr/>
        </p:nvSpPr>
        <p:spPr>
          <a:xfrm>
            <a:off x="2360520" y="333360"/>
            <a:ext cx="53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Przesłanki do odrzucenia of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AutoShape 4"/>
          <p:cNvSpPr/>
          <p:nvPr/>
        </p:nvSpPr>
        <p:spPr>
          <a:xfrm>
            <a:off x="849240" y="981000"/>
            <a:ext cx="8713800" cy="518472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Przesłankami do odrzucenia oferty (art. 149 ustawy)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  <a:ea typeface="Arial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)   złożoną przez świadczeniodawcę po termini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2)   zawierającą nieprawdziwe informacj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3)   jeżeli świadczeniodawca nie określił przedmiotu oferty lub nie podał  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proponowanej liczby lub ceny świadczeń opieki zdrowotn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4)   jeżeli zawiera rażąco niską cenę w stosunku do przedmiotu zamówien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5)   jeżeli jest nieważna na podstawie odrębnych przepis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6)   jeżeli świadczeniodawca złożył ofertę alternatywn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7)   jeżeli oferent lub oferta nie spełniają wymaganych warunków określon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w przepisach prawa oraz w szczegółowych warunkach umów o udzielanie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świadczeń opieki zdrowotnej, o których mowa w art. 146 ust. 1 pkt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8)   złożoną przez świadczeniodawcę, z którym w okresie 5 lat poprzedzając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ogłoszenie postępowania, została rozwiązana przez oddział wojewódzki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Funduszu umowa o udzielanie świadczeń opieki zdrowotnej w zakresie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lub rodzaju odpowiadającym przedmiotowi ogłoszenia, bez zachowani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okresu wypowiedzenia z przyczyn leżących po stronie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rostokąt 1"/>
          <p:cNvSpPr/>
          <p:nvPr/>
        </p:nvSpPr>
        <p:spPr>
          <a:xfrm>
            <a:off x="987840" y="291960"/>
            <a:ext cx="79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6600"/>
                </a:solidFill>
                <a:latin typeface="Arial"/>
              </a:rPr>
              <a:t>Podstawy prawne przeprowadzenia procesu kontraktowania świadcze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ole tekstowe 2"/>
          <p:cNvSpPr/>
          <p:nvPr/>
        </p:nvSpPr>
        <p:spPr>
          <a:xfrm>
            <a:off x="128520" y="662040"/>
            <a:ext cx="9433080" cy="68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Rozporządzenie Ministra Zdrowia z dnia 5 sierpnia 2016 r. w sprawie szczegółowych kryteriów wyboru ofert w postępowaniu w sprawie zawarcia umów o udzielanie świadczeń opieki zdrowotnej (Dz.U.2016 poz.1372 z późn. zm.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bowiązkowe ubezpieczenie odpowiedzialności cywilnej, stosowane odpowiednio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do formy prowadzonej działalności, wydane na podstaw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just">
              <a:lnSpc>
                <a:spcPct val="15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Rozporządzenia Ministra Finansów z dnia 22 grudnia 2011 r. w sprawie obowiązkowego ubezpieczenie odpowiedzialności cywilnej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odmiotu wykonującego działalność leczniczą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(Dz. U. z 2011 r., Nr 293, poz. 1729)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lb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just">
              <a:lnSpc>
                <a:spcPct val="15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Rozporządzenia Ministra Finansów z dnia 22 grudnia 2011 r. w sprawie obowiązkowego ubezpieczenia odpowiedzialności cywilnej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świadczeniodawcy niebędącego podmiotem wykonującym działalność leczniczą udzielającego świadczeń opieki zdrowotnej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(Dz. U. z 2011 r., Nr 293, poz. 172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AutoShape 4"/>
          <p:cNvSpPr/>
          <p:nvPr/>
        </p:nvSpPr>
        <p:spPr>
          <a:xfrm>
            <a:off x="797040" y="1125360"/>
            <a:ext cx="8713800" cy="4464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Ofertę pozostawia się bez rozpoznania gdy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- została złożona w innym miejscu niż określone w ogłoszeni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- format oferty jest niezgodny z formatem zapytań ofertowych i towarzysząc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im wzorów ankiet obowiązujących w danym postępowani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- została sporządzona w innym języku niż język polski lub w sposób nieczytel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rostokąt 5"/>
          <p:cNvSpPr/>
          <p:nvPr/>
        </p:nvSpPr>
        <p:spPr>
          <a:xfrm>
            <a:off x="849240" y="404640"/>
            <a:ext cx="87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Candara"/>
              </a:rPr>
              <a:t>Sprawdzenie, czy oferta zawiera wymagane informac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rostokąt 6"/>
          <p:cNvSpPr/>
          <p:nvPr/>
        </p:nvSpPr>
        <p:spPr>
          <a:xfrm>
            <a:off x="920880" y="112536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Komisja sprawdza, czy oferta zawiera następujące informacje i dokumen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rostokąt 7"/>
          <p:cNvSpPr/>
          <p:nvPr/>
        </p:nvSpPr>
        <p:spPr>
          <a:xfrm>
            <a:off x="763560" y="1700280"/>
            <a:ext cx="40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Dane indentyfikacyjne ofer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rostokąt 8"/>
          <p:cNvSpPr/>
          <p:nvPr/>
        </p:nvSpPr>
        <p:spPr>
          <a:xfrm>
            <a:off x="992160" y="21337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Ofertę cenow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AutoShape 4"/>
          <p:cNvSpPr/>
          <p:nvPr/>
        </p:nvSpPr>
        <p:spPr>
          <a:xfrm>
            <a:off x="992160" y="2492280"/>
            <a:ext cx="8137440" cy="72072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Czy ofertę cenową zapisaną w formie elektronicznej można odczytać i zaimportować do systemu informatyczne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rostokąt 14"/>
          <p:cNvSpPr/>
          <p:nvPr/>
        </p:nvSpPr>
        <p:spPr>
          <a:xfrm>
            <a:off x="992160" y="328464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Ankiety zawierające dane dla określonego rodzaju lub zakresu świadcze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AutoShape 4"/>
          <p:cNvSpPr/>
          <p:nvPr/>
        </p:nvSpPr>
        <p:spPr>
          <a:xfrm>
            <a:off x="992160" y="3716280"/>
            <a:ext cx="8137440" cy="50472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Określone w szczegółowych materiałach informacyjny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rostokąt 16"/>
          <p:cNvSpPr/>
          <p:nvPr/>
        </p:nvSpPr>
        <p:spPr>
          <a:xfrm>
            <a:off x="992160" y="4508640"/>
            <a:ext cx="891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4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Czy oferta 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(każda strona)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została podpisana przez osoby uprawnione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do reprezentowania ofer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rostokąt 18"/>
          <p:cNvSpPr/>
          <p:nvPr/>
        </p:nvSpPr>
        <p:spPr>
          <a:xfrm>
            <a:off x="992160" y="537372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5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Czy kolejne strony oferty zostały opatrzone numerem kolejny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rostokąt 7"/>
          <p:cNvSpPr/>
          <p:nvPr/>
        </p:nvSpPr>
        <p:spPr>
          <a:xfrm>
            <a:off x="704880" y="40464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6.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świadczenie o wpisie do właściwych rejestr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AutoShape 4"/>
          <p:cNvSpPr/>
          <p:nvPr/>
        </p:nvSpPr>
        <p:spPr>
          <a:xfrm>
            <a:off x="704880" y="887400"/>
            <a:ext cx="8713800" cy="3600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1. Oświadczenie o wpisie do właściwych rejestrów, według wzoru stanowiącego załącznik „Oświadczenie o wpisach do rejestrów” do aktualnego zarządzenia w sprawie warunków postępowania dotyczących zawierania umów o udzielanie świadczeń opieki zdrowotnej – rejestr podmiotów działalności leczniczej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2. Oświadczenie o wpisie do właściwych rejestrów, według wzoru stanowiącego załącznik „Oświadczenie o wpisach do rejestrów” do aktualnego zarządzenia w sprawie warunków postępowania dotyczących zawierania umów o udzielanie świadczeń opieki zdrowotnej – krajowy rejestr sądow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3. Oświadczenie o wpisie do właściwych rejestrów, według wzoru stanowiącego załącznik „Oświadczenie o wpisach do rejestrów” do aktualnego zarządzenia w sprawie warunków postępowania dotyczących zawierania umów o udzielanie świadczeń opieki zdrowotnej – ewidencja działalności gospodarczej lub centralna ewidencja i informacja o działalności gospodarczej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rostokąt 10"/>
          <p:cNvSpPr/>
          <p:nvPr/>
        </p:nvSpPr>
        <p:spPr>
          <a:xfrm>
            <a:off x="704880" y="4602240"/>
            <a:ext cx="84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Kopia umowy spółki cywilnej lub wyciąg z tej umow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AutoShape 4"/>
          <p:cNvSpPr/>
          <p:nvPr/>
        </p:nvSpPr>
        <p:spPr>
          <a:xfrm>
            <a:off x="704880" y="5084640"/>
            <a:ext cx="8496360" cy="108108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Zawierający postanowienia o zasadach reprezentacji spółki albo uchwała wspólników spółki cywilnej w przedmiocie zasad reprezentacji spółki – w przypadku zakładów opieki zdrowotnej, dla której organem założycielskim jest spółka cywiln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rostokąt 5"/>
          <p:cNvSpPr/>
          <p:nvPr/>
        </p:nvSpPr>
        <p:spPr>
          <a:xfrm>
            <a:off x="920880" y="260280"/>
            <a:ext cx="87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8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Kopia polisy lub innego dokumentu potwierdzającego zawarcie przez oferenta   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umowy ubezpieczenia  odpowiedzialności cywilnej oferent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AutoShape 4"/>
          <p:cNvSpPr/>
          <p:nvPr/>
        </p:nvSpPr>
        <p:spPr>
          <a:xfrm>
            <a:off x="920880" y="1052640"/>
            <a:ext cx="8496000" cy="172692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…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za szkody wyrządzone w związku z udzielaniem świadczeń w zakresie przedmiotu postępowania na okres obowiązywania umowy; oferent może złożyć także umowę przedwstępną lub inny dokument, w tym także oświadczenie, stwierdzające, że umowa ubezpieczenia odpowiedzialności cywilnej zostanie zawarta na okres obowiązywania umow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rostokąt 7"/>
          <p:cNvSpPr/>
          <p:nvPr/>
        </p:nvSpPr>
        <p:spPr>
          <a:xfrm>
            <a:off x="920880" y="292428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9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 przypadku gdy oferent jest reprezentowany przez pełnomocnika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– pełnomocnictwo do składania oświadczeń woli w imieniu oferen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AutoShape 4"/>
          <p:cNvSpPr/>
          <p:nvPr/>
        </p:nvSpPr>
        <p:spPr>
          <a:xfrm>
            <a:off x="920880" y="3716280"/>
            <a:ext cx="8496000" cy="792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Udzielone przez osobę lub osoby, których prawo do reprezentowania oferenta wynika z dokumentów przedstawionych wraz z ofert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rostokąt 10"/>
          <p:cNvSpPr/>
          <p:nvPr/>
        </p:nvSpPr>
        <p:spPr>
          <a:xfrm>
            <a:off x="920880" y="465300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10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Inne dokumenty lub oświadczenia, jeżeli obowiązek ich dołączenia do oferty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określony został w szczegółowych materiałach informacyj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AutoShape 4"/>
          <p:cNvSpPr/>
          <p:nvPr/>
        </p:nvSpPr>
        <p:spPr>
          <a:xfrm>
            <a:off x="920880" y="404640"/>
            <a:ext cx="8496000" cy="72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11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 przypadku, gdy Fundusz dopuszcza zlecanie podwykonawcom udzielania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świadczeń opieki zdrowotnej objętych umową:</a:t>
            </a:r>
            <a:r>
              <a:rPr b="1" i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AutoShape 4"/>
          <p:cNvSpPr/>
          <p:nvPr/>
        </p:nvSpPr>
        <p:spPr>
          <a:xfrm>
            <a:off x="776160" y="1341360"/>
            <a:ext cx="8496360" cy="352764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- Wykaz podwykonawców spełniających wymagania określone w szczegółowych materiałach informacyjnych dotyczących danego  przedmiotu postępowan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- Kopia zawartej umowy (bez postanowień określających finansowanie) albo zobowiązanie podwykonawcy do zawarcia umowy z oferentem, zawierające zastrzeżenie o prawie Funduszu do przeprowadzenia kontrol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rostokąt 1"/>
          <p:cNvSpPr/>
          <p:nvPr/>
        </p:nvSpPr>
        <p:spPr>
          <a:xfrm>
            <a:off x="776160" y="549360"/>
            <a:ext cx="84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Co dzieje się w przypadku zidentyfikowania brakó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AutoShape 4"/>
          <p:cNvSpPr/>
          <p:nvPr/>
        </p:nvSpPr>
        <p:spPr>
          <a:xfrm>
            <a:off x="920880" y="1341360"/>
            <a:ext cx="8496000" cy="4248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Zidentyfikowanie braku któregokolwiek z wymaganych dokumentów bądź oświadczeń, skutkuje wezwaniem świadczeniodawc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do uzupełnienia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braków formalnych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Wezwanie do uzupełnienia braków formalnych ma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formę pisemną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. Komisja wskazuje, jakie dokumenty należy uzupełnić i w jakim termin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Nie uzupełnienie braków formalnych, nie przedstawienia ich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w wyznaczonym terminie bądź przedstawienie informacji niepełnych, niezgodnych ze stanem faktycznym </a:t>
            </a:r>
            <a:r>
              <a:rPr b="1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skutkuje odrzuceniem oferty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. Komisja wzywa oferenta  - pod rygorem odrzucenia ofert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- do ich usunięcia/uzupełnienia w wyznaczonym termin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– </a:t>
            </a:r>
            <a:r>
              <a:rPr b="1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minimum 2 dni robocze od dnia wezwa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rostokąt 1"/>
          <p:cNvSpPr/>
          <p:nvPr/>
        </p:nvSpPr>
        <p:spPr>
          <a:xfrm>
            <a:off x="920880" y="47628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Wersja elektroniczna a wersja papierowa formular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AutoShape 4"/>
          <p:cNvSpPr/>
          <p:nvPr/>
        </p:nvSpPr>
        <p:spPr>
          <a:xfrm>
            <a:off x="920880" y="1628640"/>
            <a:ext cx="8496000" cy="3816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Komisja wczytuje złożoną przez świadczeniodawcę na nośniku elektronicznym ofertę do systemu informatycznego i sprawdza, czy forma elektroniczna oferty jest zgodna ze złożoną wersją papierową oferty.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W przypadku, gdy nośnika elektronicznego nie można odczytać bądź wersja elektroniczna i papierowa oferty nie są zgodne, komisja wzywa oferenta do uzupełnienia braków tj. dostarczenia nowego nośnika zawierającego ofertę w formie elektronicznej zgodną ze złożoną wersją papierow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Documents"/>
          <p:cNvSpPr/>
          <p:nvPr/>
        </p:nvSpPr>
        <p:spPr>
          <a:xfrm>
            <a:off x="6465960" y="4653000"/>
            <a:ext cx="1352520" cy="1809720"/>
          </a:xfrm>
          <a:custGeom>
            <a:avLst/>
            <a:gdLst>
              <a:gd name="textAreaLeft" fmla="*/ 102960 w 1352520"/>
              <a:gd name="textAreaRight" fmla="*/ 1034640 w 1352520"/>
              <a:gd name="textAreaTop" fmla="*/ 349200 h 1809720"/>
              <a:gd name="textAreaBottom" fmla="*/ 1450800 h 180972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rostokąt 1"/>
          <p:cNvSpPr/>
          <p:nvPr/>
        </p:nvSpPr>
        <p:spPr>
          <a:xfrm>
            <a:off x="1784520" y="33336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2862aa"/>
                </a:solidFill>
                <a:latin typeface="Candara"/>
              </a:rPr>
              <a:t>Dokumenty formalno-praw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rostokąt 3"/>
          <p:cNvSpPr/>
          <p:nvPr/>
        </p:nvSpPr>
        <p:spPr>
          <a:xfrm>
            <a:off x="1352520" y="105264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W części dotyczącej oceny zgodności złożonej oferty z dokumentami formalno-prawnymi komisja sprawdza w szczególności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AutoShape 4"/>
          <p:cNvSpPr/>
          <p:nvPr/>
        </p:nvSpPr>
        <p:spPr>
          <a:xfrm>
            <a:off x="992160" y="1773360"/>
            <a:ext cx="3960720" cy="208728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zgodność oświadczenia świadczeniodawcy dotyczącego wpisów do rejestró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w publicznym rejestrze teleinformatyczn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AutoShape 4"/>
          <p:cNvSpPr/>
          <p:nvPr/>
        </p:nvSpPr>
        <p:spPr>
          <a:xfrm>
            <a:off x="5097600" y="1773360"/>
            <a:ext cx="3958920" cy="2160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czy specjalności komórek organizacyjnych i dziedziny medyczne są odpowiednie dla realizacji zakresu, na który została złożona ofe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rostokąt 6"/>
          <p:cNvSpPr/>
          <p:nvPr/>
        </p:nvSpPr>
        <p:spPr>
          <a:xfrm>
            <a:off x="704880" y="4292640"/>
            <a:ext cx="892800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W przypadku stwierdzenia niezgodności rejestru wskazanego w oświadczeniu z rejestrem publicznym lub gdy rejestr nie zawiera informacji o specjalności komórek organizacyjnych i dziedziny medycznej odpowiedniej dla realizacji zakresu, komisja przygotowuje stosowną adnotację oraz wzywa oferenta do uzupełnienia braku tj. przedłożenia aktualnego wypisu z rejestru podmiotów wykonujących działalność leczniczą w wersji papierowej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Nie uzupełnienie braku, nie przedstawienie w wyznaczonym terminie, bądź przedstawienie informacji nieprawdziwych skutkuje odrzuceniem oferty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rostokąt 1"/>
          <p:cNvSpPr/>
          <p:nvPr/>
        </p:nvSpPr>
        <p:spPr>
          <a:xfrm>
            <a:off x="2958840" y="333360"/>
            <a:ext cx="45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Część niejawna postępow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AutoShape 4"/>
          <p:cNvSpPr/>
          <p:nvPr/>
        </p:nvSpPr>
        <p:spPr>
          <a:xfrm>
            <a:off x="920880" y="1125360"/>
            <a:ext cx="8496000" cy="266400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Oferty, które w części jawnej postępowania nie zostały odrzucone,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bądź nie pozostały bez rozpatrzenia, uczestniczą w części niejawnej postępowan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Ocena 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ofert dokonywana w </a:t>
            </a:r>
            <a:r>
              <a:rPr b="1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części niejawnej 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dotyczy </a:t>
            </a:r>
            <a:r>
              <a:rPr b="1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potencjału świadczeniodawcy 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(zasoby kadrowo -, sprzętowo-, lokalowe)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oraz </a:t>
            </a:r>
            <a:r>
              <a:rPr b="1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spełnienia wymagań mających wpływ na jakość udzielanych świadcze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AutoShape 4"/>
          <p:cNvSpPr/>
          <p:nvPr/>
        </p:nvSpPr>
        <p:spPr>
          <a:xfrm>
            <a:off x="920880" y="4365720"/>
            <a:ext cx="8496000" cy="1800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286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rostokąt 4"/>
          <p:cNvSpPr/>
          <p:nvPr/>
        </p:nvSpPr>
        <p:spPr>
          <a:xfrm>
            <a:off x="1208160" y="4724280"/>
            <a:ext cx="792144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Szczegółowe kryteria oceny ofert określa Rozporządzenie Ministra Zdrowi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z dnia 5 sierpnia 2016 r. w sprawie szczegółowych kryteriów wyboru ofert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 postępowaniu w sprawie zawarcia umów o udzielanie świadczeń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opieki zdrowotnej (Dz.U.2016 poz.1372 z późn. zm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2"/>
          <p:cNvSpPr/>
          <p:nvPr/>
        </p:nvSpPr>
        <p:spPr>
          <a:xfrm>
            <a:off x="1208160" y="620640"/>
            <a:ext cx="770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l-PL" sz="3200" spc="-1" strike="noStrike">
                <a:solidFill>
                  <a:srgbClr val="ff6600"/>
                </a:solidFill>
                <a:latin typeface="Candara"/>
                <a:ea typeface="Arial"/>
              </a:rPr>
              <a:t>Uwagi praktyczne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AutoShape 4"/>
          <p:cNvSpPr/>
          <p:nvPr/>
        </p:nvSpPr>
        <p:spPr>
          <a:xfrm>
            <a:off x="728640" y="1628640"/>
            <a:ext cx="8713800" cy="244800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W przypadku powzięcia przez komisję konkursową uzasadnionego podejrzenia              o celowym oraz  mającym wpływ na wybór oferty podania nieprawdziwych dan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w ofercie tzw. „kłamstwo ofertowe” istnieje obowiązek złożenia stosownego zawiadomienia do Prokuratury. Zgodnie bowiem, z art. 193 pkt 7 ustawy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o świadczeniach opieki zdrowotnej finansowanych ze środków publicznych: </a:t>
            </a:r>
            <a:br>
              <a:rPr sz="1800"/>
            </a:br>
            <a:r>
              <a:rPr b="0" i="1" lang="pl-PL" sz="1800" spc="-1" strike="noStrike">
                <a:solidFill>
                  <a:srgbClr val="000000"/>
                </a:solidFill>
                <a:latin typeface="Candara"/>
              </a:rPr>
              <a:t>Kto podaje w ofercie złożonej w postępowaniu w sprawie zawarcia umowy o udzielanie świadczeń opieki zdrowotnej finansowanych przez Fundusz nieprawdziwe informacje </a:t>
            </a:r>
            <a:br>
              <a:rPr sz="1800"/>
            </a:br>
            <a:r>
              <a:rPr b="0" i="1" lang="pl-PL" sz="1800" spc="-1" strike="noStrike">
                <a:solidFill>
                  <a:srgbClr val="000000"/>
                </a:solidFill>
                <a:latin typeface="Candara"/>
              </a:rPr>
              <a:t>i dane, podlega karze grzyw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 txBox="1"/>
          <p:nvPr/>
        </p:nvSpPr>
        <p:spPr>
          <a:xfrm>
            <a:off x="344520" y="2060640"/>
            <a:ext cx="90662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Obwieszczenie Ministra Zdrowia z dnia 22 września 2015 r. w sprawie ogłoszenia jednolitego tekstu rozporządzenia Ministra Zdrowia w sprawie świadczeń gwarantowanych z zakresu świadczeń pielęgnacyjnych i opiekuńczych w ramach opieki długoterminowej (Dz.U. z 2015 r. poz. 1658),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ARZĄDZENIE NR 45/2018/DSOZ PREZESA NARODOWEGO FUNDUSZU ZDROWIA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 dnia 30 maja 2018 r. w sprawie określenia warunków zawierania i realizacji umów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w rodzaju świadczenia pielęgnacyjne i opiekuńcze w ramach opieki długoterminowej,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ARZĄDZENIE Nr 73/2018/DSOZ PREZESA NARODOWEGO FUNDUSZU ZDROWI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 dnia 30 lipca 2018 r. zmieniające zarządzenie w sprawie określenia warunków zawierania i realizacji umów w rodzaju świadczenia pielęgnacyjne i opiekuńcze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w ramach opieki długoterminowej,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95000" y="337680"/>
            <a:ext cx="8915400" cy="15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ndara"/>
              </a:rPr>
              <a:t>Akty prawne dotyczące rodzaju: </a:t>
            </a:r>
            <a:br>
              <a:rPr sz="2400"/>
            </a:br>
            <a:r>
              <a:rPr b="1" lang="pl-PL" sz="2400" spc="-1" strike="noStrike" u="sng">
                <a:solidFill>
                  <a:srgbClr val="ff0000"/>
                </a:solidFill>
                <a:uFillTx/>
                <a:latin typeface="Candara"/>
              </a:rPr>
              <a:t>ŚWIADCZENIA PIELĘGNACYJNE I OPIEKUŃCZE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2"/>
          <p:cNvSpPr/>
          <p:nvPr/>
        </p:nvSpPr>
        <p:spPr>
          <a:xfrm>
            <a:off x="1208160" y="620640"/>
            <a:ext cx="770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l-PL" sz="3200" spc="-1" strike="noStrike">
                <a:solidFill>
                  <a:srgbClr val="ff6600"/>
                </a:solidFill>
                <a:latin typeface="Candara"/>
                <a:ea typeface="Arial"/>
              </a:rPr>
              <a:t>Uwagi praktyczne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AutoShape 4"/>
          <p:cNvSpPr/>
          <p:nvPr/>
        </p:nvSpPr>
        <p:spPr>
          <a:xfrm>
            <a:off x="728640" y="1628640"/>
            <a:ext cx="8713800" cy="396108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W przypadku przedstawienia przez świadczeniodawcę nieprawdziwych lub niezgodnych ze stanem faktycznym danych lub informacji,  mających istotny wpływ na zawarcie umowy w toku postępowania w sprawie zawarcia umowy Dyrektor oddziału wojewódzkiego Funduszu może rozwiązać umowę w części albo w całości bez zachowania okresu wypowiedzenia (§ 36 ust 1. pkt 7 Ogólnych warunków umów o udzielanie świadczeń opieki zdrowotnej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 drugiej strony, rozwiązanie umowy o udzielanie świadczeń opieki zdrowotnej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w określonym rodzaju lub zakresie w trybie natychmiastowym z przyczyn leżących po stronie świadczeniodawcy stanowi podstawę obligatoryjnego odrzucenia oferty (art. 149 ust. 1 pkt.8 </a:t>
            </a:r>
            <a:r>
              <a:rPr b="0" i="1" lang="pl-PL" sz="1800" spc="-1" strike="noStrike">
                <a:solidFill>
                  <a:srgbClr val="000000"/>
                </a:solidFill>
                <a:latin typeface="Candara"/>
              </a:rPr>
              <a:t>ustawy o świadczeniach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1"/>
          <p:cNvSpPr/>
          <p:nvPr/>
        </p:nvSpPr>
        <p:spPr>
          <a:xfrm>
            <a:off x="0" y="28080"/>
            <a:ext cx="920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rostokąt 6"/>
          <p:cNvSpPr/>
          <p:nvPr/>
        </p:nvSpPr>
        <p:spPr>
          <a:xfrm>
            <a:off x="1496880" y="62064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Zanim złożysz ofert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rostokąt 7"/>
          <p:cNvSpPr/>
          <p:nvPr/>
        </p:nvSpPr>
        <p:spPr>
          <a:xfrm>
            <a:off x="329040" y="1268280"/>
            <a:ext cx="50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Przed złożeniem oferty należy sprawdzić, czy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rostokąt 10"/>
          <p:cNvSpPr/>
          <p:nvPr/>
        </p:nvSpPr>
        <p:spPr>
          <a:xfrm>
            <a:off x="1568520" y="1700280"/>
            <a:ext cx="74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została przygotowana przy użyciu właściwej wersji oprogramowani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o którym mowa w regulaminie technicznym przygotowania ofert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rostokąt 12"/>
          <p:cNvSpPr/>
          <p:nvPr/>
        </p:nvSpPr>
        <p:spPr>
          <a:xfrm>
            <a:off x="1676520" y="255888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pobrany został właściwy plik z zapytaniem ofertowy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rostokąt 16"/>
          <p:cNvSpPr/>
          <p:nvPr/>
        </p:nvSpPr>
        <p:spPr>
          <a:xfrm>
            <a:off x="689040" y="3141720"/>
            <a:ext cx="9217080" cy="28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szystkie formularze ofertowe zostały wypełnion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ydruk papierowy formularzy ofertowych i wersja elektroniczna  zapisan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            na nośniku elektronicznym są tej samej wersj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szystkie strony formularza oferty są ponumerowane i podpisane przez osobę 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uprawnioną do reprezentowania świadczeniodawcy zgodnie z załączonym do 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oferty wzorem podpis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trzałka w prawo 18"/>
          <p:cNvSpPr/>
          <p:nvPr/>
        </p:nvSpPr>
        <p:spPr>
          <a:xfrm>
            <a:off x="992160" y="1916280"/>
            <a:ext cx="432000" cy="217440"/>
          </a:xfrm>
          <a:prstGeom prst="rightArrow">
            <a:avLst>
              <a:gd name="adj1" fmla="val 50000"/>
              <a:gd name="adj2" fmla="val 50037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Strzałka w prawo 19"/>
          <p:cNvSpPr/>
          <p:nvPr/>
        </p:nvSpPr>
        <p:spPr>
          <a:xfrm>
            <a:off x="992160" y="2637000"/>
            <a:ext cx="432000" cy="2156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Strzałka w prawo 20"/>
          <p:cNvSpPr/>
          <p:nvPr/>
        </p:nvSpPr>
        <p:spPr>
          <a:xfrm>
            <a:off x="992160" y="321300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Strzałka w prawo 21"/>
          <p:cNvSpPr/>
          <p:nvPr/>
        </p:nvSpPr>
        <p:spPr>
          <a:xfrm>
            <a:off x="992160" y="4005360"/>
            <a:ext cx="432000" cy="2156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Strzałka w prawo 22"/>
          <p:cNvSpPr/>
          <p:nvPr/>
        </p:nvSpPr>
        <p:spPr>
          <a:xfrm>
            <a:off x="992160" y="508464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rostokąt 6"/>
          <p:cNvSpPr/>
          <p:nvPr/>
        </p:nvSpPr>
        <p:spPr>
          <a:xfrm>
            <a:off x="1712880" y="668160"/>
            <a:ext cx="7128000" cy="51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nośnik, na którym została zapisana wersja elektroniczna oferty jest prawidłowo oznaczon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szystkie dodatkowe dokumenty i oświadczenia zostały załączone, ponumerowane i podpisane przez osobę uprawnioną do reprezentowania świadczeniodawcy zgodnie z załączonym do oferty wzorem podpis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załączone dokumenty stanowiące kserokopie są potwierdzone                  „za zgodność z oryginałem”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ydruk formularza oferty (z ponumerowanymi stronami i podpisami) wraz z nośnikiem elektronicznym i wersja elektroniczna oferty zostały umieszczone w oddzielnej zaklejonej kopercie oznaczonej słowem „oferta”, nazwą i adresem świadczeniodawcy oraz kodem                           i przedmiotem postępowania (zgodnie z ogłoszeniem o postępowaniu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Strzałka w prawo 7"/>
          <p:cNvSpPr/>
          <p:nvPr/>
        </p:nvSpPr>
        <p:spPr>
          <a:xfrm>
            <a:off x="992160" y="83664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Strzałka w prawo 8"/>
          <p:cNvSpPr/>
          <p:nvPr/>
        </p:nvSpPr>
        <p:spPr>
          <a:xfrm>
            <a:off x="992160" y="215748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Strzałka w prawo 10"/>
          <p:cNvSpPr/>
          <p:nvPr/>
        </p:nvSpPr>
        <p:spPr>
          <a:xfrm>
            <a:off x="992160" y="3284640"/>
            <a:ext cx="432000" cy="2156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trzałka w prawo 11"/>
          <p:cNvSpPr/>
          <p:nvPr/>
        </p:nvSpPr>
        <p:spPr>
          <a:xfrm>
            <a:off x="992160" y="479736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rostokąt 1"/>
          <p:cNvSpPr/>
          <p:nvPr/>
        </p:nvSpPr>
        <p:spPr>
          <a:xfrm>
            <a:off x="1136520" y="2967120"/>
            <a:ext cx="77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Uwag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Informacje zawarte w opracowaniu nie stanowią źródła praw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2"/>
          <p:cNvSpPr/>
          <p:nvPr/>
        </p:nvSpPr>
        <p:spPr>
          <a:xfrm>
            <a:off x="631800" y="2060640"/>
            <a:ext cx="87850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6600"/>
                </a:solidFill>
                <a:latin typeface="Candara"/>
                <a:ea typeface="Arial"/>
              </a:rPr>
              <a:t>Dziękuję za uwagę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2"/>
          <p:cNvSpPr/>
          <p:nvPr/>
        </p:nvSpPr>
        <p:spPr>
          <a:xfrm>
            <a:off x="5240160" y="436572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2"/>
          <p:cNvSpPr/>
          <p:nvPr/>
        </p:nvSpPr>
        <p:spPr>
          <a:xfrm>
            <a:off x="5168880" y="508464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 txBox="1"/>
          <p:nvPr/>
        </p:nvSpPr>
        <p:spPr>
          <a:xfrm>
            <a:off x="495000" y="2674440"/>
            <a:ext cx="89154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Obwieszczenie Ministra Zdrowia z dnia 28 marca 2018 r. w sprawie ogłoszenia jednolitego tekstu rozporządzenia Ministra Zdrowia w sprawie świadczeń gwarantowanych z zakresu opieki paliatywnej i hospicyjnej (Dz.U. z 2018 r. poz. 742),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Rozporządzenie Ministra Zdrowia z dnia 12 czerwca 2018 r. zmieniające rozporządzenie w sprawie świadczeń gwarantowanych z zakresu opieki paliatywnej i hospicyjnej,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ARZĄDZENIE NR 74/2018/DSOZ PREZESA NARODOWEGO FUNDUSZU ZDROWI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 dnia 31 lipca 2018 r. w sprawie określenia warunków zawierania i realizacji umów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w rodzaju opieka paliatywna i hospicyjna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ndara"/>
              </a:rPr>
              <a:t>Akty prawne dotyczące rodzaju: </a:t>
            </a:r>
            <a:br>
              <a:rPr sz="2400"/>
            </a:br>
            <a:r>
              <a:rPr b="1" lang="pl-PL" sz="2400" spc="-1" strike="noStrike" u="sng">
                <a:solidFill>
                  <a:srgbClr val="ff0000"/>
                </a:solidFill>
                <a:uFillTx/>
                <a:latin typeface="Candara"/>
              </a:rPr>
              <a:t>OPIEKA PALIATYWNA I HOSPICYJNA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rostokąt 4"/>
          <p:cNvSpPr/>
          <p:nvPr/>
        </p:nvSpPr>
        <p:spPr>
          <a:xfrm>
            <a:off x="2476440" y="3105000"/>
            <a:ext cx="4953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rostokąt 8"/>
          <p:cNvSpPr/>
          <p:nvPr/>
        </p:nvSpPr>
        <p:spPr>
          <a:xfrm>
            <a:off x="992160" y="69228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Gdzie i kiedy można zapoznać się ze szczegółowymi </a:t>
            </a: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warunkami postępowani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rostokąt 11"/>
          <p:cNvSpPr/>
          <p:nvPr/>
        </p:nvSpPr>
        <p:spPr>
          <a:xfrm>
            <a:off x="992160" y="2565360"/>
            <a:ext cx="8569440" cy="22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głoszeni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zawiera szczegółowe informacje, od kiedy i gdzie możn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pobrać i zapoznać się z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teriałami niezbędnymi do przygotowania ofert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którymi są w szczególnoś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- aplikacja do sporządzenia oferty w wersji elektroniczn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- plik z zapytaniem ofertowym do zaimplementowania do aplikacji ofertow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- wzory formularzy ofertowych i oświadcze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rostokąt 8"/>
          <p:cNvSpPr/>
          <p:nvPr/>
        </p:nvSpPr>
        <p:spPr>
          <a:xfrm>
            <a:off x="2664000" y="155520"/>
            <a:ext cx="47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Miejsce i termin składania ofe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AutoShape 4"/>
          <p:cNvSpPr/>
          <p:nvPr/>
        </p:nvSpPr>
        <p:spPr>
          <a:xfrm>
            <a:off x="857160" y="617400"/>
            <a:ext cx="8640720" cy="21639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Miejsc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składania ofert zostaje precyzyjnie określone w ogłoszeniu postępowania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Należy pamiętać, że wskazane w ogłoszeniu o konkursie ofert miejsce  do złożenia oferty jest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yłącznie uprawnione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do jej przyjęcia. Pozostawienie oferty w innym miejscu spowoduje pozostawienie oferty bez rozpoznani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odobnie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termin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złożenia oferty zostaje precyzyjnie określony w ogłoszeni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Następuje to najczęściej poprzez podanie konkretnej daty i godziny, do której należy złożyć oferty. Oferta złożona po wskazanym terminie podlega odrzuceni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Elipsa 11"/>
          <p:cNvSpPr/>
          <p:nvPr/>
        </p:nvSpPr>
        <p:spPr>
          <a:xfrm>
            <a:off x="2593800" y="2852640"/>
            <a:ext cx="4680000" cy="576360"/>
          </a:xfrm>
          <a:prstGeom prst="ellipse">
            <a:avLst/>
          </a:prstGeom>
          <a:noFill/>
          <a:ln w="9360">
            <a:solidFill>
              <a:srgbClr val="286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ferta może zostać złoż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rostokąt 16"/>
          <p:cNvSpPr/>
          <p:nvPr/>
        </p:nvSpPr>
        <p:spPr>
          <a:xfrm>
            <a:off x="6004080" y="381960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a pośrednictwem pocz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rostokąt 18"/>
          <p:cNvSpPr/>
          <p:nvPr/>
        </p:nvSpPr>
        <p:spPr>
          <a:xfrm>
            <a:off x="1658880" y="381960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Osobiś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7" name="Łącznik prosty ze strzałką 20"/>
          <p:cNvCxnSpPr/>
          <p:nvPr/>
        </p:nvCxnSpPr>
        <p:spPr>
          <a:xfrm>
            <a:off x="6271920" y="3514320"/>
            <a:ext cx="181800" cy="20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8" name="Łącznik prosty ze strzałką 23"/>
          <p:cNvCxnSpPr/>
          <p:nvPr/>
        </p:nvCxnSpPr>
        <p:spPr>
          <a:xfrm flipH="1">
            <a:off x="3036240" y="3432240"/>
            <a:ext cx="30060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9" name="AutoShape 4"/>
          <p:cNvSpPr/>
          <p:nvPr/>
        </p:nvSpPr>
        <p:spPr>
          <a:xfrm>
            <a:off x="441360" y="4467240"/>
            <a:ext cx="4895640" cy="107640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 miejscu i w terminie wskazanym w ogłoszeniu o postępowaniu. Oferent wówczas otrzymuje potwierdzenie jej złożenia zawierające datę złożenia oraz numer z rejestru ofe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AutoShape 4"/>
          <p:cNvSpPr/>
          <p:nvPr/>
        </p:nvSpPr>
        <p:spPr>
          <a:xfrm>
            <a:off x="5450040" y="4500720"/>
            <a:ext cx="4160520" cy="158400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Ofertę przesłaną drogą pocztową uważa się za złożoną w terminie, jeżeli data stempla pocztowego (data nadania) 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ie jest późniejsza niż termin składania ofert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określony w ogłoszeniu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oraz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 jeżeli oferta wpłynie do oddziału wojewódzkiego NFZ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nie później niż na jeden dzień przed otwarciem ofert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 txBox="1"/>
          <p:nvPr/>
        </p:nvSpPr>
        <p:spPr>
          <a:xfrm>
            <a:off x="944280" y="1916280"/>
            <a:ext cx="84661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ferty składa się w zamkniętych kopertach lub paczkach w miejscu i terminie określonych w ogłoszeniu o postępowaniu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znaczenie przesyłki wyraźnie wskazuje na zamieszczoną wewnątrz ofertę oraz wskazuje kod postępowania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ferent obowiązany jest złożyć ofertę w formie pisemnej oraz elektronicznej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ndara"/>
              </a:rPr>
              <a:t>OFERT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4"/>
          <p:cNvSpPr/>
          <p:nvPr/>
        </p:nvSpPr>
        <p:spPr>
          <a:xfrm>
            <a:off x="776160" y="552600"/>
            <a:ext cx="8856720" cy="2300040"/>
          </a:xfrm>
          <a:prstGeom prst="roundRect">
            <a:avLst>
              <a:gd name="adj" fmla="val 16667"/>
            </a:avLst>
          </a:prstGeom>
          <a:solidFill>
            <a:srgbClr val="2862aa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Candara"/>
              </a:rPr>
              <a:t>Oferta w formie pisemnej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 obejmu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ndara"/>
              </a:rPr>
              <a:t>1.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Candara"/>
              </a:rPr>
              <a:t>wydruk formularza ofertowego zgodny z jego postacią elektroniczną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</a:rPr>
              <a:t>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- opatrzony na każdej stronie tego wydruku kolejnym numerem oraz podpisami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lub parafami osób uprawnionych do reprezentowania oferenta, zgodnymi ze wzorami podpisów, zamieszczonymi w tabeli określonej w załączniku nr 6 do zarządzeni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ndara"/>
              </a:rPr>
              <a:t>2.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Candara"/>
              </a:rPr>
              <a:t>dokumenty i oświadczenia wymienione w § 14  Zarządzenia Prezesa NFZ nr 18/2017/DSOZ z dnia 14 marca 2017 r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rostokąt 1"/>
          <p:cNvSpPr/>
          <p:nvPr/>
        </p:nvSpPr>
        <p:spPr>
          <a:xfrm>
            <a:off x="4011480" y="3789360"/>
            <a:ext cx="547848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Formularz ofertowy przygotowuje się w formie elektronicznej przy użyciu aplikacji ofertowej             w sposób określony w regulaminie technicznym przygotowania ofer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 formie wydruku stanowi on wersję pisemną formularza ofertow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Picture 14" descr="C:\Program Files\Microsoft Office\MEDIA\CAGCAT10\j0195384.wmf"/>
          <p:cNvPicPr/>
          <p:nvPr/>
        </p:nvPicPr>
        <p:blipFill>
          <a:blip r:embed="rId1"/>
          <a:stretch/>
        </p:blipFill>
        <p:spPr>
          <a:xfrm>
            <a:off x="1281240" y="3141720"/>
            <a:ext cx="1795320" cy="18320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1T20:16:07Z</dcterms:created>
  <dc:creator>katarzyna.wiktorzak</dc:creator>
  <dc:description/>
  <dc:language>en-US</dc:language>
  <cp:lastModifiedBy>Wojciech Mika</cp:lastModifiedBy>
  <cp:lastPrinted>2019-03-12T08:41:44Z</cp:lastPrinted>
  <dcterms:modified xsi:type="dcterms:W3CDTF">2019-03-15T13:16:38Z</dcterms:modified>
  <cp:revision>1145</cp:revision>
  <dc:subject/>
  <dc:title>Slajd 1</dc:title>
</cp:coreProperties>
</file>