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737E27A-C868-4295-A95A-5272FF6EC77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1E56A26-2A74-4CB8-AA91-2495EE2776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4E61325-AB6B-4134-B21B-4D1E9CFCFA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13AE66D-8BE5-4DE5-B095-4593182F8D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3B45E0F-8300-49AD-B57D-1FC6301054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7A7E-3B97-4529-82C0-363520072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CAE6-342C-477D-B669-44B52D4B61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B307-25F0-4120-B799-58DF58D2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0FE0-371F-4391-9432-EA2F5BE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B83C5-F925-441E-9A37-15C1E48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C012B-024F-492C-8E59-EAA5EE7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B8FE-17EC-4803-BE9A-91AE36F7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F5AB-ECB8-4390-8F5A-42F4897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BD0F-21F1-437B-AED5-A1FA344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8185-D5DF-41AE-B16B-AEBDD2BE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34E41-DC18-4AEA-9615-5BE35A80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B731F-E5E2-47D2-B037-DA1A41BA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FDE9-4B17-4303-9BF7-879695846B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04BB-2EE8-4E69-9F3A-735860E9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EDF83-53B0-463A-9885-202E4D3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B6A4-45CF-4B56-B20A-A4D3368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D9627-BCFD-4CF0-AE41-78AB2A23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1BCA-FD4B-4350-8D9E-82318AD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597F-A8F0-4772-A935-8DA6E84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EA9F5-D69C-4CB9-BE11-36E9040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6EF33-2F8D-4EBB-AC67-E439E42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BD94-AC7E-4768-A4A5-B6F4553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BDAB2-C4EB-436D-A4A6-DDC61B64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68F3-4290-4B19-9679-E4108FDEF3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D7CD-3574-4C1A-89F3-83216160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E3A0-D7C0-46A3-BFBD-FB9A785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346B-8107-4AF6-8152-2158229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9B327-2A22-404E-971E-3D41CCE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8F4C-1192-476D-87DD-F7DA0C81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90D7-3889-491B-A6E9-F2EA840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6B464-FC88-48B2-B599-F520546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52AC8-80E5-4DBB-8A98-F236FE1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36B2D-6B57-4347-8FBB-61C5A1A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2ACA-1204-45D7-8E8B-6AE1C5D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C239F-87F1-4A27-BE12-10CBBF8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9F49-4D88-4C79-B65A-F5F50361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E6DD9-A351-4E67-8AAF-D625C4DA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AC6D-4E4C-4705-B14E-842521BE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2D9C9-9B45-4EDA-8974-C2A45852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BFA1E-7741-439C-AFF4-C142DC3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28F6D-B5CC-4CAC-9D53-AB02123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E5FDA-577C-49F3-8875-F3CC133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DC34-64F4-483B-A51B-4F49B68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1D802-1E2E-4D97-9D79-3BE5E40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9E31-01A0-4DF2-ACC4-67BDB7A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3842-61BA-4AB9-8258-0063F35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4CC88-C0A5-43D2-A887-866C8D1D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3101-C5E1-4E35-8D80-E4E2DF02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8E46-A575-47B4-8E5A-264D37C2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3AB7A-BC78-4681-889E-65FCECFF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A8723-DF8F-4800-8ECF-4A0222D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BF7D-AA27-46D9-A703-18AD1879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9A737-1D05-4E08-BF90-B44DC04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386D-079F-4911-8D7C-BC9FCCDA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F78A6-9D75-4B1D-BAD3-0BA5BDF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937B6-D19C-4A37-909F-9291645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F9C52-BC80-41A8-BAA9-8EC1C30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0A56A-477F-470E-80B7-FC1E64E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BAD61-37B8-495F-B2A7-280DA0A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9679A-A93C-4E7C-A1BD-87A00F91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74F66-0D18-4737-86B7-1000730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98B96-E6B1-42E2-912E-643BA879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6B615-5595-40E1-B2C7-44FD378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5DF26-8A11-4C2D-A8A5-538EF899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A5F1-9E54-498E-BE64-66DD6DD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E1A94-BEF1-4649-A16B-22890AB9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1AA0E-21B7-44F0-8250-34D7D74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A886-014E-499B-B867-BCB52AF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4DE28-3FDA-490E-8C89-F23D39D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31CD-6147-4897-87C6-0C65285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7C034-C60E-48B8-AB5D-D209AD6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3DE4-4695-40FE-981F-0B7FF079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E1CB7-14D0-4AD8-9988-B63B8FFF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0692C-302C-4B55-BB24-06CF4358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B268C-4C75-43E7-A5DD-CB162CA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786F1-046F-4414-A754-FB154FB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2E3DD-60D4-4C48-9813-F505A13A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B63EF-92F7-47C4-9CF7-C494712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30847-20CA-45B1-8916-B13800AE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BA425-1D0A-48CF-BEEE-29CAD21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1F9E2-7C10-4C32-8BD4-7F238A1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3E245-B4E4-46FD-A924-B13ED1B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FD15A-0CEE-4200-873B-2BDA7A1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A507E-7C73-4240-B27C-401521BB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2F50A-7D0D-472B-8E29-597B1DCC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8E045-47BB-49F1-AFF1-1830566A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E80D6-75DC-44F9-B88B-E2A979F6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8C46B-BAD3-4A89-A48B-BA303A7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C2AEA-3554-44F1-915E-CF605828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DCE1F-7A67-4E44-BDEE-8A50E2F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E3B52-7CCE-4F3A-8182-D0394BF8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B6C73-7E70-43F3-A497-AD1F9B9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F301A-4905-4ABE-B9B6-9E2FCE6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5CD8A-E4BF-4F50-B25D-E9B0DFD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08BBD-D363-43BE-84B0-F8686BA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C782D-E09D-4251-AEF6-60A291FB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097A4-3D88-4DD3-AEB1-EF82F517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5E2A2-B478-4D02-BEA6-A57E28A5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F4B8E-D1D5-4D2A-9CAC-2E1C57F5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98146-B84A-49CD-8106-1315792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25674-646A-46D9-86CA-5CA6B0F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71FFF-30F1-4F07-A331-F5AACA4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5F757-C5D1-4252-BC9C-F11971A1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2A001-7345-48F0-A899-FE8A4FA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7C44-45EA-4B9C-B421-21390A1C7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82416-7FF4-4DEB-A490-14D3528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2D0CA-CC74-4FFD-B4BD-6226B07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CDB0D-1456-420D-9492-117B0BD1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592B9-773F-42E6-B6AE-D4AA4BE9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7F2E4-98C5-49B7-9200-0CEA3C0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E8366-0FEB-4691-AC99-3A587A9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98101-F627-46BE-ADE5-C9B57F0C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188CC-DA6A-4FDA-A7C2-8456E2B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10A76-21C5-43C2-929B-36F2E82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78A64-85AB-4670-9869-32439D94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10164-8F0C-40AD-8AE7-8215C38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A8DD3-3BE0-4E82-BBD8-472F9F1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53A2C-1B22-493D-8EBB-253321D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CC748-98ED-4117-B676-A18BEF6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74ADA-955D-451D-BDE3-E7B1119A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AD27A-8AC2-4514-B205-D312AE84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50B6C-8030-4D39-A8E7-260D2F1E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D4294-A17B-4015-A0A7-B132887D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9A424-2CBA-43C0-9782-725E1683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7098-6874-456E-9739-4D5C0B3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A91F-2D09-450A-8ECF-F0475268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2374-817C-4E8E-8298-1C7C248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E1EE-BF9F-43D7-934A-783A5A3995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34EAE-09BF-47CD-B776-B978A965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CFC6-8687-4ACF-ACFB-48604386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ED17-8006-4781-A13F-69E5EFB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3245-BEA8-474A-9186-6937D0C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752F3-B47E-402F-9FD2-0734118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470FC-9F17-4982-8842-10D0D340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45E3F-BB8F-4D9D-A01C-DB6BD9FB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1D2C-8F81-407E-BF7A-EE6991232F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B4924-8532-4B50-87F3-079AC89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436C-100C-4800-AA82-60D84C3CA3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3044C-C5B8-4017-941E-7D2929A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4E9DA-C644-4D4B-BD5F-7FF710B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718BF-CDD1-464D-B08C-B26C17D5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5C9CF-1112-45BD-AAA2-5258B915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07780-0BBA-4B49-AF25-7EB2234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45125-5F39-4B74-B25F-150EF56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B8A16-E347-45B6-A554-8396430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D4D71-4A88-4E57-959F-B0723D1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5BA9E-7D83-4A31-BD60-DF05CEC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950DC-762A-45AF-9DFC-6DD0962A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8957-BB16-457B-812F-1478FADAC2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CF6F1-1F5F-4D00-AF01-C3F3621E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D4482-46B1-49B1-9108-3A450A451B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D8B8F-1254-4DDF-AE75-5CF6FBC1DE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E3D40-2781-49E4-8731-EA34C834D0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60085-5241-4F3B-BC09-CD8802AC18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8D1B3-1D63-4460-97A2-8D51B62809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6860B-E9E2-481A-8E06-8920FE0A3A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6AB1D-756E-4C37-BE53-2B290EDE90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07CEE-FF10-496D-AE25-865609975E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234A6-0D00-45B5-B4B3-1ABE9156F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DC43-A543-4814-AB26-A19CC5C17B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8F249-A6EE-4BED-B9DC-13C420D880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BCDC1-B99B-4AEF-80B4-2BB0E42F3D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AE404-587C-47FE-875E-CA2D9A54A9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3356-973C-48F1-A6F4-9077AB740E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A232-81BB-4526-A80A-F9CD998287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AC41-B5F3-43A9-B5AB-4113769BE6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7D81-F1EB-41B7-82EC-C9BCBBC5A7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91FC-C59C-4FF7-82ED-A3957C971C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3B19-B09C-4E52-9400-D4E1BD57A7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1819-9EE3-4A40-9C8A-94F35F6E2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E9BA-561C-44C9-BD5A-3E0C2C1B14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4EF9-DB29-4B17-A08E-7A9E8EDF82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5DED-4BA8-4AD3-BF44-72702981AA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5647-7FFB-4CFF-994A-79B579B283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26A3-68D8-40A5-80A1-0C026E32E8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62CC-01BE-4B9F-BDF3-B0F633DD97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2C4C-0A16-4CC0-81AC-65D44186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F6B2-8F75-402F-AB57-F5E694C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051F-3375-4D4E-9E7B-1DB6506C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50A8-61DF-44CA-890C-9BAD4266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D985-55FD-463D-8039-F1C620E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8325-B46E-49D6-99C4-48112546F4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DDD5-9BFB-4AFC-8381-F73397D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42C1-F05D-4CEF-8C4E-1FA70673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E18B9-0641-40C6-9650-4F086C7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96E7-8D3C-481C-A14A-912D275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2A5F-4D19-4335-B28E-42F4C315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5F94-608B-446B-B7ED-DD0314F2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6EC2-CF4E-43BB-9DF0-9FF91D04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5270-4970-40E9-B6D6-6D91E81D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3551-8EAF-4B17-BC73-F8B275B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F3F5-E495-46C7-998D-6D5C56B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8C65-98BA-46E7-9B7C-D168E829DC6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B86-4AAF-46EC-AFC2-1BD87053ED0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8C4-3C17-402A-AAA5-12F06C0375D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C863-3B6D-4CED-92EE-835C4C75C3F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79F-4FFD-482C-8D1D-D5D7CAF70D0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490-B1B5-45B1-AFA7-F41D6315D38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0E1-1C8C-4367-8735-A58574C63D2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09B-CA3C-49D2-84EB-C287C946B89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1E64-48DF-4AE3-B65F-AC0F755E2F6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1A0-E42A-429E-A272-0C793C989A7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3013-09C1-4449-AFDB-48B7DDB8FFD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BEF-BCA6-40D5-8F89-DC8C4AFFF31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C0A5-6FDE-4113-8CD8-26D20070351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943-38E1-44DD-AEA0-2E23385C6BF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951-5AA7-4324-B6A2-1220C5E537F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908-A63E-420C-93D3-D8B0FA5A94C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AE9F-A7D2-4460-986C-2F235E34CAB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C4A-0F2A-4D41-A607-5EBF3C3C14C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A93-5238-419E-B619-EED35E47349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B19-AD29-4640-A644-66129ADDB9B6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795-97E7-47EF-8132-ABB030E6F06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62C-E6A0-4FB3-A75A-789F1404B65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7B75-9666-41E2-950C-1924A8E27EC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100-44CD-46B8-AE6D-6215D9D916E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047-2FAA-4E36-8F62-465868C218A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-</a:t>
            </a: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ambulatoryjnych w poradni medycyny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porady i konsultacje lekarskie w poradni lub w domu świadczeniobiorcy, w tym również świadczeniobiorcy, który n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został zakwalifikowany do hospicjum domowego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porady psychologa w poradni lub w domu świadczeniobior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świadczenia pielęgniarskie w poradni lub 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3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9E9-F14F-4DC1-82BF-49DB1C60B5B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r>
              <a:rPr b="0" lang="pl-PL" sz="2800" spc="-1" strike="noStrike">
                <a:solidFill>
                  <a:srgbClr val="7030a0"/>
                </a:solidFill>
                <a:latin typeface="Candara"/>
              </a:rPr>
              <a:t>„ZDOLNOŚĆ KONTRAKTOWA”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5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189-F3F9-4F91-AE19-38C5899A920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rostokąt 6"/>
          <p:cNvSpPr/>
          <p:nvPr/>
        </p:nvSpPr>
        <p:spPr>
          <a:xfrm>
            <a:off x="344520" y="533556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862aa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452520" y="1989000"/>
          <a:ext cx="8929440" cy="3273480"/>
        </p:xfrm>
        <a:graphic>
          <a:graphicData uri="http://schemas.openxmlformats.org/drawingml/2006/table">
            <a:tbl>
              <a:tblPr/>
              <a:tblGrid>
                <a:gridCol w="1546200"/>
                <a:gridCol w="1752480"/>
                <a:gridCol w="1736640"/>
                <a:gridCol w="1946520"/>
                <a:gridCol w="1947600"/>
              </a:tblGrid>
              <a:tr h="81612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ody resortowe*/ 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, hospicjum domowe dla dzieci, 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, 2181, 2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4/4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w warunkach stacjonarnych – leki i wyroby medyczne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3)  transport sanitarny wg. określonych zasad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2D15-B5DE-4CAE-999A-ACF7064A645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2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opieki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EBC-25C3-46CE-B89B-B76F633991D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Candara"/>
              </a:rPr>
              <a:t>Wymagania</a:t>
            </a: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222-9A02-4859-B8C7-2091B7BB030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oddziale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/hospicjum stacjonarn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F22-CF4D-4F1A-ABFE-D800ABC9FAF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9A36-2F3B-42E7-800C-49FBF6E735C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704880" y="1596960"/>
          <a:ext cx="8497800" cy="428004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938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oddział medycyny paliatywnej/hospicjum stacjonar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65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8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0 łóż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opiekun medycz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631800" y="1728720"/>
          <a:ext cx="8424720" cy="419580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192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miejscu udzielania świadcz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łóżka szpitalne (zwykłe i łamane) o regulowanej wysokości, wyposażone w ruchome barierki zabezpieczające przed wypadnięci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ie z rejestrem lub ofert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ace przeciwodleżyn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y sprzęt przeciwodleżynowy - w szczególnosci poduszki, podpórki, wał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zęt ułatwiający pielęgnację - zintegrowany system do higieny ciała, podnośnik, parawany, pasy ślizg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3 łóż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każde rozpoczęte 1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- w lokal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B6A-FF03-4939-9EC8-DEE9171E6BF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5" descr=""/>
          <p:cNvPicPr/>
          <p:nvPr/>
        </p:nvPicPr>
        <p:blipFill>
          <a:blip r:embed="rId1"/>
          <a:stretch/>
        </p:blipFill>
        <p:spPr>
          <a:xfrm>
            <a:off x="1208160" y="1052640"/>
            <a:ext cx="72486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15440" y="220500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478-EA51-4080-AAE2-2690AC9AD6C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lekarz specjalista w dziedzinie medycyny paliatywnej, lub lekarz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trakcie specjalizacji w dziedzinie medycyny paliatywnej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lub lekarz legitymujący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kształcenia przeddyplomowego lub podyplomowego lekarzy lub jednostkę posiadającą akredytację do prowadzenia specjalizacji w dziedzinie medycyny paliatywnej − 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równoważnik 1 etatu przeliczeniowego na 10 łóżek</a:t>
            </a: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055-2242-4FB9-BD75-3ECD191927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ielęgniark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a) ukończyła specjalizację w dziedzinie pielęgniarstwa opieki paliatywnej albo jest w trakcie tej specjalizacji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b) ukończyła kurs kwalifikacyjny w dziedzinie pielęgniarstwa opieki paliatywnej albo jest w trakcie tego kursu, lub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c) ukończyła kurs specjalistyczny w zakresie podstaw opieki paliatywnej albo jes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 trakcie tego kurs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co najmniej 25% czasu pracy ogółu pielęgniarek udzielających świadczeń u danego świadczeniodawc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76C-416D-405D-96D0-8D64601E3DB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- psycholog lub psycholog posiadający tytuł specjalisty w dziedzinie psychologii klinicznej, lub psychoonkolog, którym jest osoba z wykształceniem psychologicznym lub medycznym, która ukończyła studia wyższe i uzyskała tytuł magistra lub równorzędny oraz ukończyła studia podyplomowe z psychoonkologii </a:t>
            </a:r>
            <a:r>
              <a:rPr b="0" lang="pl-PL" sz="2000" spc="-1" strike="noStrike">
                <a:solidFill>
                  <a:srgbClr val="ff0000"/>
                </a:solidFill>
                <a:latin typeface="Candara"/>
              </a:rPr>
              <a:t>− równoważnik 1/2 etatu przeliczeniowego na 20 łóżek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694-6FBC-4BBF-80AE-C8346DB0708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soba, która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a) rozpoczęła po dniu 30 września 2012 r. studia wyższe z zakresu fizjoterapii obejmujące co najmniej 2435 godzin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kształcenia w zakresie fizjoterapii i uzyskała tytuł licencjata lub dodatkowo co najmniej 1440 godzin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w zakresie fizjoterapii i uzyskała tytuł magistra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b) rozpoczęła po dniu 31 grudnia 1997 r. studia wyższe na kierunku fizjoterapia, zgodnie ze standardami kształceni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określonymi w odrębnych przepisach, i uzyskała tytuł licencjata lub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c) rozpoczęła przed dniem 1 stycznia 1998 r. studia wyższe na kierunku rehabilitacja ruchowa lub rehabilitacj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i uzyskała tytuł magistra na tym kierunku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d) rozpoczęła przed dniem 1 stycznia 1998 r. studia wyższe w Akademii Wychowania Fizycznego i uzyskała tytuł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magistra oraz ukończyła specjalizację I lub II stopnia w dziedzinie rehabilitacji ruchowej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e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w ramach studiów dwuletnią specjalizację z zakresu gimnastyki leczniczej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 rehabilitacji ruchowej potwierdzoną legitymacją instruktora rehabilitacji ruchowej lub gimnastyki leczniczej,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f) rozpoczęła przed dniem 1 stycznia 1980 r. studia wyższe na kierunku wychowanie fizyczne i uzyskała tytuł magistra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na tym kierunku oraz ukończyła 3-miesięczny kurs specjalizacyjny z rehabilitacji, lub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g) ukończyła szkołę policealną publiczną lub niepubliczną o uprawnieniach szkoły publicznej i uzyskała tytuł zawodowy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ndara"/>
              </a:rPr>
              <a:t>technik fizjoterapii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1" lang="pl-PL" sz="1300" spc="-1" strike="noStrike">
                <a:solidFill>
                  <a:srgbClr val="ff0000"/>
                </a:solidFill>
                <a:latin typeface="Candara"/>
              </a:rPr>
              <a:t>równoważnik 1/4 etatu przeliczeniowego na 10 łóżek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2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B8D9-DFD1-4BDE-8A34-5EEE7257B0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ndara"/>
              </a:rPr>
              <a:t>Wymagania dotyczące personelu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rzed dniem 1 września 2012 r. i ukończyła zasadniczą szkołę zawodową publiczną lub niepubliczną o uprawnieniach szkoły publicznej oraz uzyskała dyplom potwierdzający kwalifikacje zawodowe w zawodzie opiekun medyczny lub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poczęła po dniu 31 sierpnia 2012 r. i ukończyła kwalifikacyjny kurs zawodowy oraz uzyskała świadectwo lub dyplom potwierdzający kwalifikacje w zawodzie opiekun medyczny lub ukończyła szkołę policealną publiczną lub niepubliczną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 uprawnieniach szkoły publicznej oraz uzyskała dyplom potwierdzający kwalifikacje zawodowe w zawodzie opiekun medyczny.”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DFDB-4F91-4C73-899B-F02848EB5CE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nne warunki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całodobowy dostęp przez 7 dni w tygodniu do świadczeń opieki zdrowotnej udzielanych przez lekarza, o którym mowa w ust. 1 pkt 1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całodobowe świadczenia opieki zdrowotnej udzielane przez pielęgniarkę przez 7 dni w tygodni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DB31-6F75-47ED-81BA-8B58D9326E6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1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3152-8EF3-4F2C-98EA-9B1844C8BC3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D58-6AE8-4704-BFAA-6F37679A0D4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3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Candara"/>
              </a:rPr>
              <a:t>hospicjum domowe/hospicjum domowe dla dzieci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631800" y="1728720"/>
          <a:ext cx="8424720" cy="3284640"/>
        </p:xfrm>
        <a:graphic>
          <a:graphicData uri="http://schemas.openxmlformats.org/drawingml/2006/table">
            <a:tbl>
              <a:tblPr/>
              <a:tblGrid>
                <a:gridCol w="5688000"/>
                <a:gridCol w="2736720"/>
              </a:tblGrid>
              <a:tr h="255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zęt medyczny i pomocnicz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z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magana licz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tor tlenu lub inne źródło tlen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k elektrycz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1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ala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k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araty do pomiaru ciśnienia tętniczego kr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py infuzyj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1 sztuka na 20 świadczeniobior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e, laski, balkoniki, wózki inwalidz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podano przeliczn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eser pielęgniar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każdej wykazanej w ofercie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C9A-7CB0-4C14-844E-29DE60B4DFA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Inne warunk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1) całodobowy dostęp przez 7 dni w tygodniu do świadczeń opieki zdrowotnej udzielanych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2) porady lekarskie w zależności od potrzeb, nie rzadziej niż 2 w miesiąc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3) całodobowy dostęp przez 7 dni w tygodniu do świadczeń opieki zdrowotnej udzielanych przez pielęgniark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4) wizyty pielęgniarskie w zależności od potrzeb, nie rzadziej niż 2 w tygodniu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5) pozostały personel − porady lub wizyty ustalane indywidualnie przez lekarza, o którym mowa w ust. 1 pkt 1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6) świadczeniobiorcy dorosłemu mogą być udzielane świadczenia gwarantowane w ramach opieki paliatywnej dla dzieci, jeżeli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a) jednostka chorobowa ma charakter wrodzony lub choroba ograniczająca życie została zdiagnozowana przed ukończeniem przez świadczeniobiorcę 18. roku życia, a świadczeniobiorca korzystał ze świadczeń gwarantowanych realizowanych w hospicjum domowym dla dzieci do ukończenia 18. roku życia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TimesNewRoman"/>
              </a:rPr>
              <a:t>b) nie istnieje możliwość odpowiedniego udzielania świadczeń gwarantowanych przez hospicja domowe dla dorosłych ze względu na rzadki charakter choroby lub miejsce zamieszk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0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E7E9-1A05-415E-AC02-2299F2B9AA2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29 października 2013 r. 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3 poz. 1347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31 styczn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2017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4a8a4"/>
                </a:solidFill>
                <a:latin typeface="Candara"/>
              </a:rPr>
              <a:t>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7 poz. 236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E714-4394-455C-A81E-D395DC2C50C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Świadczenia w hospicjum domowym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dla dzieci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D8F1-3569-4798-BA7D-9A578D3E44F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3DF-7196-4EA1-B1E8-71EB755B887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704880" y="2133720"/>
          <a:ext cx="8497800" cy="36082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492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hospicjum domowe dla dzie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20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2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2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fizjoterapeu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równoważnik 1/4 etatu przeliczenioweg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a 15 świadczeniobior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erinatalna opieka paliatyw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9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793-E5BA-47E4-A8E5-C85901FB4F2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6A1-FF02-4338-ABAF-FBEF117EF07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04880" y="2133720"/>
          <a:ext cx="8497800" cy="222408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5068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inatalna opieka paliatyw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496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(kryteria oceny ofert co najmniej ¼ eta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Inne warunki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1) pomieszczenie przystosowane do udzielania konsultacji lekarskich i psychologicznych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) współpraca ze świadczeniodawcą udzielającym świadczeń z zakresu położnictwa i ginekologii − trzeci poziom referencyjny oraz neonatologii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w warunkach leczenia szpitalnego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3) współpraca z położną podstawowej opieki zdrowotnej oraz lekarzem specjalistą w dziedzinie położnictwa i ginekologii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4) świadczeniodawca realizujący świadczenie gwarantowane w warunkach perinatalnej opieki paliatywnej posiada co najmniej trzyletnie doświadczenie w pracy w pediatrycznej opiece paliatywnej w zakresie hospicjum domowego dla dzieci lub hospicjum stacjonarnego lub współpracuje z ośrodkiem mającym doświadczenie w pracy w pediatrycznej opiece paliatywnej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5) świadczenie gwarantowane w warunkach perinatalnej opieki paliatywnej jest realizowane do 28. dnia po porodz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5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044-29DC-4EB5-AA0D-83C9BA45B64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44160" y="1599840"/>
            <a:ext cx="921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b87d6"/>
                </a:solidFill>
                <a:latin typeface="Candara"/>
              </a:rPr>
              <a:t>Poradnia medycyny paliatyw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8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FFE8-0A6E-42B5-861C-533057F4E27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25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787C-0DAD-4CCF-BDE0-CEB0B6894A2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704880" y="2133720"/>
          <a:ext cx="8497800" cy="2778120"/>
        </p:xfrm>
        <a:graphic>
          <a:graphicData uri="http://schemas.openxmlformats.org/drawingml/2006/table">
            <a:tbl>
              <a:tblPr/>
              <a:tblGrid>
                <a:gridCol w="3311640"/>
                <a:gridCol w="5186160"/>
              </a:tblGrid>
              <a:tr h="8600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erso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poradnia medycyny paliatyw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06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leka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ielęgni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psycholog, psycholog kliniczny, psychoonko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2862aa"/>
                          </a:solidFill>
                          <a:latin typeface="Calibri"/>
                        </a:rPr>
                        <a:t>nie wskazano paryte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ganizacja pracy poradni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radnia jest czynna co najmniej 3 dn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godniu po 2,5 godziny dziennie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tym 1 dzień w godzinach popołudniowych − do godziny 18:00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5601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ne warunki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) świadczenia gwarantowane w warunkach ambulatoryjnych są przeznaczone dla świadczeniobiorców, których sta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gólny jest stabilny oraz którzy mogą przybyć do poradni medycyny paliatywnej sami lub którzy ze względu na ograniczon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ć poruszania się wymagają porad lub wizyt w domu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) świadczenia gwarantowane w warunkach ambulatoryjnych obejmują nie więcej niż 2 porady lub wizyty w tygodniu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mu świadczeniobiorcy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PUNKTÓW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hospicjum domowe 1 punkt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944280" y="1628280"/>
            <a:ext cx="8026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bwieszczenie Ministra Zdrowia w sprawie ogłoszenia jednolitego tekstu rozporządzenia Ministra Zdrowia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świadczeń gwarantowanych z zakresu opieki paliatywnej 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z 2018 r. poz. 742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 dnia 12 czerwca 2018 r. zmieniające rozporządzenie w sprawie świadczeń gwarantowanych z zakresu opieki paliatyw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hospicyjn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Dz.U. 2018 poz. 1185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34160" indent="-32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7A7-EDEC-4B4D-B132-4BB34C3BD8A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UWAGA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W przypadku wykazania w oferci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lekarza legitymującego się dokumentem ukończenia kursu zgodnego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programem specjalizacji w dziedzinie medycyny paliatywnej, dotyczącego problematyki bólu, objawów somatycznych i psychicznych, organizowanego przez Centrum Medyczne Kształcenia Podyplomowego lub wyższą uczelnię medyczną posiadającą uprawnienia do kształcenia przeddyplomowego lub podyplomowego lekarzy lub jednostkę posiadającą akredytację do prowadzenia specjalizacji w dziedzinie medycyny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Należy wskazać  kompetencje o kodz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0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12</a:t>
            </a: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– kurs zgodny z programem specjalizacji w dziedzinie medycyny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ndara"/>
              </a:rPr>
              <a:t>             paliatywnej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8A79-04AC-4B69-AE1F-C7C29FF2711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2880" y="1341000"/>
            <a:ext cx="936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UWAGA!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ewidencjonowanie kompetencji pielęgniarskich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kwalifikacyjny w dziedzinie pielęgniarstwa opieki paliatywnej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010 – pielęgniarstwo opieki paliatywnej – kurs kwalifikacyj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kurs specjalistyczny z zakresu podstaw opieki paliatywnej albo jest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trakcie tego kursu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(kompetencja: 0311 – pielęgniarstwo opieki paliatywnej – kurs specjalistyczny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w przypadku wykazywania w ofercie pielęgniarek, będących w trakcie uzyskiwania wymaganych kwalifikacji  należy wskazać kompetencję </a:t>
            </a:r>
            <a:br>
              <a:rPr sz="2200"/>
            </a:b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o kodzie: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Candara"/>
              </a:rPr>
              <a:t>0303 - pielęgniarka w trakcie szkolenia specjalizacyjnego/kursu kwalifikacyjnego/kursu specjalistyczneg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2250-DFC1-4E3F-8459-B05C5019C15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B55-E240-425C-AD71-74CBBDA10AA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560520" y="1700280"/>
          <a:ext cx="8856360" cy="4465440"/>
        </p:xfrm>
        <a:graphic>
          <a:graphicData uri="http://schemas.openxmlformats.org/drawingml/2006/table">
            <a:tbl>
              <a:tblPr/>
              <a:tblGrid>
                <a:gridCol w="1935000"/>
                <a:gridCol w="1360440"/>
                <a:gridCol w="1733760"/>
                <a:gridCol w="1734840"/>
                <a:gridCol w="2092320"/>
              </a:tblGrid>
              <a:tr h="6634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76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g harmonogramu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 najmniej 3 dni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 po 2,5 godzinny dziennie,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1 dzień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popołudniowych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do godziny 1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talony harmonogram pracy komórki (miejsca udzielanie świadczeń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 tj. 10 godzin tygodniow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ni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0C6E-2A28-46E4-8C05-4FDF499C52F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415800" y="1413000"/>
          <a:ext cx="9001080" cy="4564080"/>
        </p:xfrm>
        <a:graphic>
          <a:graphicData uri="http://schemas.openxmlformats.org/drawingml/2006/table">
            <a:tbl>
              <a:tblPr/>
              <a:tblGrid>
                <a:gridCol w="1595520"/>
                <a:gridCol w="1809720"/>
                <a:gridCol w="1792440"/>
                <a:gridCol w="1793880"/>
                <a:gridCol w="2009520"/>
              </a:tblGrid>
              <a:tr h="5680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a medycyny paliatyw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cjum domowe dla dzieci i młodzie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talna opieka paliaty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ział medycyny paliatywnej/hospicjum stacj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rozbiciu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godn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harmonogramem pracy porad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arze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rmonogram godzinowy w rozbiciu na dni tygo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ryteria oceny ofert dostępność personelu co najmniej ¼ eta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olodzy 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15800" y="2205000"/>
            <a:ext cx="9074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ZARZĄDZENIA  PREZES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przedmiot postępowania w sprawie zawarcia umowy </a:t>
            </a:r>
            <a:br>
              <a:rPr sz="2600"/>
            </a:b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4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4a8a4"/>
                </a:solidFill>
                <a:latin typeface="Candara"/>
              </a:rPr>
              <a:t>szczegółowe warunki umowy o udzielanie świadczeń opieki zdrowotnej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0A32-DBD7-421F-8C91-91985AF712B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wrześni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Zarządzenie Nr 74/2018/DSOZ Prezesa  Narodowego Funduszu Zdrowia z dnia 31 lipca 2018 r.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sprawie określenia warunków zawierania i realizacji umów </a:t>
            </a:r>
            <a:br>
              <a:rPr sz="2600"/>
            </a:br>
            <a:r>
              <a:rPr b="1" lang="pl-PL" sz="2600" spc="-1" strike="noStrike">
                <a:solidFill>
                  <a:srgbClr val="2862aa"/>
                </a:solidFill>
                <a:latin typeface="Candara"/>
              </a:rPr>
              <a:t>w rodzaju opieka paliatywna i hospicyjna,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958-81D0-4DCB-BD92-E54DB64636A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 świadczeń w opiece paliatywnej i hospicyj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73CC-1078-4F9C-8B84-73C0699BF3F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0D5-E7A2-4464-BF37-D0A347134B7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344520" y="1413000"/>
          <a:ext cx="9361440" cy="5383080"/>
        </p:xfrm>
        <a:graphic>
          <a:graphicData uri="http://schemas.openxmlformats.org/drawingml/2006/table">
            <a:tbl>
              <a:tblPr/>
              <a:tblGrid>
                <a:gridCol w="504720"/>
                <a:gridCol w="2190960"/>
                <a:gridCol w="1068120"/>
                <a:gridCol w="981360"/>
                <a:gridCol w="1498320"/>
                <a:gridCol w="1206720"/>
                <a:gridCol w="1204920"/>
                <a:gridCol w="706320"/>
              </a:tblGrid>
              <a:tr h="277560">
                <a:tc gridSpan="6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atalog  świadczeń w opiece paliatywnej i hospicyjne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zakresu świadcze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Jednostka rozliczeniowa zakresu świadcze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Nazwa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Kod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waga punktowa</a:t>
                      </a:r>
                      <a:br>
                        <a:rPr sz="1000"/>
                      </a:b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 produktu rozliczeniow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a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4180.02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6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do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7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oddziale medycyny paliatywnej / hospicjum stacjonarnym dla pacjentów żywionych pozajelito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9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0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świadczenia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osobodzień w hospicjum domowym dla dzie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1180.007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a w poradni medycyny paliatywn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erinatalna opieka paliatywna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15.2181.028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un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Porady i konsultacje lekarskie oraz psychologiczne wraz z koordynację opie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5.15.00.0000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24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 gridSpan="8"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 uwzględniona na podstawie załącznika do Obwieszczenia Prezesa Agencji Oceny Technologii Medycznej i Taryfikacji z dnia 29 czerwca 2016 r. w  sprawie taryf świadczeń gwarantowanych w rodzaju opieka paliatywna i hospicyjna.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Taryfy zostały ustalone w odniesieniu do świadczenia bazowego, tj. osobodzień w hospicjum domowym, któremu przyporządkowano wartość równą 1 punkt.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2862aa"/>
                          </a:solidFill>
                          <a:latin typeface="Arial Narrow"/>
                        </a:rPr>
                        <a:t>** świadczenie rozliczane za kompleksową opiekę, liczba porad i konsultacji dostosowana do potrzeb dziecka i rodzic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200160" y="2674440"/>
            <a:ext cx="9432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b87d6"/>
                </a:solidFill>
                <a:latin typeface="Candara"/>
              </a:rPr>
              <a:t>Wzory oświadczeń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C0C9-3674-46DF-995E-7616FD23A21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2160" y="1483920"/>
            <a:ext cx="8026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domow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) ambulatoryjnych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4) perinatalnej opieki paliatywnej – w ośrodku diagnostyki prenatalnej, w ośrodku kardiologii prenatalnej, w zakładzie genetyki, w poradni medycyny paliatywnej, w hospicjum domowym dla dzieci lub w hospicjum stacjonarnym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buClr>
                <a:srgbClr val="31b6fd"/>
              </a:buClr>
              <a:buFont typeface="Candar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258-61A1-42A5-A4E8-4A322FD008B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80F9-2AF5-4946-9B00-D7976267D48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9F23-246C-4B61-A2E8-FB2F1B938BC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tretch/>
        </p:blipFill>
        <p:spPr>
          <a:xfrm>
            <a:off x="2079720" y="115920"/>
            <a:ext cx="57466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A86-A068-4829-8AF6-40146AB41B9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2079720" y="403200"/>
            <a:ext cx="574668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E10-FD56-48DE-B876-F5410C037A5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9720" y="442800"/>
            <a:ext cx="57466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2477-2F57-4C86-943D-998C7827AB5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079720" y="333360"/>
            <a:ext cx="5746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00EA-E792-41CC-9FE4-B3874898E27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2" descr=""/>
          <p:cNvPicPr/>
          <p:nvPr/>
        </p:nvPicPr>
        <p:blipFill>
          <a:blip r:embed="rId1"/>
          <a:stretch/>
        </p:blipFill>
        <p:spPr>
          <a:xfrm>
            <a:off x="2079720" y="1442880"/>
            <a:ext cx="57466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88" name="Picture 2" descr=""/>
          <p:cNvPicPr/>
          <p:nvPr/>
        </p:nvPicPr>
        <p:blipFill>
          <a:blip r:embed="rId1"/>
          <a:stretch/>
        </p:blipFill>
        <p:spPr>
          <a:xfrm>
            <a:off x="1449360" y="4019400"/>
            <a:ext cx="7016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orada w poradni medycyny paliatywnej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1180.00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0.027.02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hospicjum domowym dla dzieci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7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w oddziale medycyny paliatywnej/hospicjum stacjonarnym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4180.021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3d3fe"/>
                </a:solidFill>
                <a:latin typeface="Candara"/>
              </a:rPr>
              <a:t>5.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erinatalna opieka paliatywn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5.2181.028.0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72880" y="1052640"/>
            <a:ext cx="928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stacjonarnych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3) leczenie farmakologiczne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9) badania zlecone przez lekarza zatrudnionego w hospicjum stacjonarnym lub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0) zaopatrzenie w wyroby medyczne konieczne do wykonania świadczenia gwarantowanego w hospicjum stacjonarnym lub w oddziale medycyny paliatywn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11) opiekę wyręczającą obejmującą przyjmowanie świadczeniobiorców do hospicjum stacjonarnego lub oddziału medycyny paliatywnej na okres nie dłuższy niż 10 dn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89F-8285-4932-A01C-229EF75F0C6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domowych obejmują 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świadczenia opieki zdrowotnej udzielane przez lekarzy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świadczenia opieki zdrowotnej udzielane przez pielęgniarki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leczenie bólu zgodnie z wytycznymi Światowej Organizacji Zdrowia (drabina analgetyczna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leczenie innych objawów somatyczny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opiekę psychologiczną nad świadczeniobiorcą i jego rodziną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rehabilitację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zapobieganie powikłaniom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oraz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badania zlecone przez lekarza zatrudnionego w hospicjum domowym dla dorosłych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lub dla dzieci do ukończenia 18 roku życia, </a:t>
            </a:r>
            <a:r>
              <a:rPr b="0" lang="pl-PL" sz="1800" spc="-1" strike="noStrike" u="sng">
                <a:solidFill>
                  <a:srgbClr val="073e87"/>
                </a:solidFill>
                <a:uFillTx/>
                <a:latin typeface="Candara"/>
              </a:rPr>
              <a:t>ordynację leków i bezpłatne wypożyczanie przez hospicja domowe wyrobów medycznych</a:t>
            </a: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 wymienionych w ust. 3 części II załącznika nr 2 </a:t>
            </a:r>
            <a:br>
              <a:rPr sz="1800"/>
            </a:b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do rozporządze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77B-5275-4AC3-9D22-978FD2A7B0D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72880" y="1052280"/>
            <a:ext cx="928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Świadczenia gwarantowane realizowane w warunkach perinatalnej opieki paliatywnej obejmu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porady i konsultacje lekarskie w poradni medycyny paliatywnej, hospicjum domowym dla dzieci lub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porady psychologa w poradni medycyny paliatywnej, w hospicjum domowym dla dzieci lub w hospicjum stacjonarnym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3) koordynację opieki przez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zapewnienie współpracy ze świadczeniodawcą udzielającym świadczeń z zakresu położnictwa i ginekologii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neonatologii, w warunkach leczenia szpitalnego lub porady specjalistycznej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zapewnienie współpracy z hospicjum domowym dla dzieci lub z hospicjum stacjonarnym, pozwalającej na zachowanie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iągłości opieki nad dzieckiem w przypadku zaistnienia możliwości wypisu z oddziału, na którym przebywa dziecko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zapewnienie współpracy z ośrodkiem diagnostyki prenatalnej, ośrodkiem kardiologii prenatalnej lub zakład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enetyki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poinformowanie rodziców dziecka o możliwości pożegnania się ze zmarłym dzieckiem oraz o sposobie pochówku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przekazanie informacji dotyczących postępowania w przypadku zgonu dziecka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zapewnienie ciągłości leczenia stosownie do stanu zdrowia, po zakończeniu realizacji świadczenia gwarantowaneg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w warunkach perinatalnej opieki paliatywnej, w tym w uzasadnionych przypadkach opiekę paliatywną po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urodzeniu dziecka oraz wsparcie w żałobie po śmierci dziecka przez udział w grupie wsparcia w żałobi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4D61-FA6E-4E3D-B626-3B6364A3C0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58Z</dcterms:modified>
  <cp:revision>1250</cp:revision>
  <dc:subject/>
  <dc:title>Slajd 1</dc:title>
</cp:coreProperties>
</file>