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0.wmf" ContentType="image/x-wmf"/>
  <Override PartName="/ppt/media/image4.jpeg" ContentType="image/jpeg"/>
  <Override PartName="/ppt/media/image13.wmf" ContentType="image/x-wmf"/>
  <Override PartName="/ppt/media/image28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</p:sldIdLst>
  <p:sldSz cx="9907588" cy="6858000"/>
  <p:notesSz cx="66706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67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663120" y="740880"/>
            <a:ext cx="53406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C65F365B-BB8B-4CF7-8D6C-50C8FF17FC3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CF85F1D1-2771-4255-9CF3-7AC8E4800728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0B0D9285-714B-4EE9-A7D5-2DFB6888F51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12667-E806-4BB2-A910-2CE912F94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E0C3E-9E29-41CA-96F6-ABEAE780CC8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DFAE1-8951-4A8A-A048-6B259D51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76486-CE23-449A-82B8-1092126C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7C231-B62B-41BE-A7EB-50CCA4CE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32E53-BC94-4EFF-A778-2ADECB12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EEA30-17AA-42F5-B11E-6CBE9799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24DEC-7481-4DF7-BF83-CABB8A25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E3229-FDAF-45CA-AFF6-DE8C9C6B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08F91-4E17-4109-A914-FC7913B0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1F196-315E-46E7-941A-C6256FF3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55723-BB0F-4592-96AD-88CE655F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6148D-168A-46D0-8F39-1F33FFA5F7D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8E9D6-41D6-415F-B7A2-95B47FAA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DDC6D-0244-46E0-8229-E09CC440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0F920-D548-4BBA-9D23-39CED385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7A46D-B9F4-494A-B751-29B8303A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C39BF-8F8F-4292-9985-6D145413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198B5-870A-4C93-B806-242F4D89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C4CDC-AE29-4586-BFC0-B415C5CF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21BED-1BF2-4122-BE83-C06141E3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CC927-A932-48F4-A2DB-7A27F43D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2C3F1-C796-45F1-B501-6431513A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5D948-4037-4817-8B7A-0AFB3B63B96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FD198-05B1-4761-8073-F27FABC2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E82ED-B037-4AFA-8052-5DD28494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26B20-2C9B-419C-AF37-0153A286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C121B-D1AF-49AC-8BB1-E5AAD666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7F728-A014-4554-9CEC-1B06FAF3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EE0F5-5B4B-4676-852C-00EB17C9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753C6-3EB8-4EF9-8614-DECBFDBD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40B47-E7A4-4AE7-A370-505074C5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8DFB6-A832-4A3A-A610-D6E2A806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C3095-F5A3-489A-BEA8-3B2CB78E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1DCFD-6224-4237-BEC2-208ADECD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18C48-07E0-4BB6-A46E-748EE57F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5770E-A09E-4399-8B03-FC0EC936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1B915-C5D4-4948-B14F-98E53B1C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13958-396C-4C9A-AC6F-C49E77B2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33670-173B-4548-9D21-08748DCF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8FC4D-8D73-47AB-9953-762BFBDC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A9D8D-0AB6-4390-B040-3867D8AF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BC5EC-CF96-40FE-BC51-B08466C8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CF250-CB08-413B-949B-A6D94D13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6FF19-1EE1-487E-9167-B874FD5F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7AD43-6B6F-48E8-A668-1E1AD7F9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7C82B-83A5-4A15-850C-E5D87205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4BE72-D0B6-4F9F-B0D5-49807F86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1DD69-DE14-4656-973F-379BD9B2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ACDBF-F3DA-4AFC-9D20-4F8CA8B1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4DBA0-B7AC-4357-BCF9-1678D903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A35EF-8BDC-4624-82F3-C5125CF0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CC4A6-348A-4C81-9F20-03448B24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34339-E287-4A73-8FBE-DA5E6E39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86315-F31A-45F1-9D72-AEED47FC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52474-703B-43DE-B902-11D839A4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2DF9E-D40E-4608-8BA8-AB169C57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5F696-611B-4D77-BD01-340A1C01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CA7FC-9A9D-4EBD-81E8-D37CF7C7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4786C-DEEA-40BA-913E-E7F9E647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09E5C-01A2-4DD6-98DD-0122DAC8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D03C8-30B3-4D11-A98C-D5AF3D86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1ACDD-1648-4E67-B219-28F66D2F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8F7A8-406B-4A3E-89E4-64270BC5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B78F5-4B79-4826-81DE-85001C8B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B553B-EAF8-4A02-B756-B5160FA5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35377-85B1-42EA-8D0A-C5A37BA3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09906-D5A7-4864-B081-08EB1E98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A7BE0-708D-4ED9-8C32-B07D4B71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14C7C-D43C-4189-A629-8AEEA542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30E38-0AA4-49B4-8285-29135F5F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7EAEA-408B-42B1-A4C7-4B1A0393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74FDC-3C49-434D-A0EA-2E215FB5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4F44C-02E1-4C8C-B494-2729FCCC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52C3F-7C53-4687-A42D-6E4AD37D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EE6CB-CDE1-4B6E-A1CF-031A3217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85398-D5B7-4234-BDCE-B502DD86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EA229-9149-4C9C-A167-470DFD74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2F7EA-D013-4DB3-BF9A-0B3ACD1D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4B31C-5E2B-4BAC-9925-B2BB67E7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12E53-0584-44B4-B111-ED3701C7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F4EA6-9F6E-4AE6-9EBC-5CC93CF9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1BD4A-DFF8-4CD9-BE5F-215C32C0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5E6DD-1BEA-49E0-B814-234B1C85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AA291-10A8-4A55-A31E-950C48C5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F6922-060C-42CC-BFEC-66651E69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8232FA-D188-47CB-B2E6-70EA374A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7A04F-5834-463E-948B-B2CF820A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852653-56FE-44F2-95DC-679A8BD6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D7B260-1420-4B1A-9D2B-F3B65835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338342-1E1D-45BA-8BEC-0DB89FD2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E8051A-14E8-4B81-8725-CE951B9C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4B262A-A3F7-4C25-895B-F6DBE812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601DD-A787-4A3D-AB8A-9D4959EC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9AE9E-7E88-4F24-A21F-B9D56B37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657029-13D5-4F26-A642-4AB7E6A2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66681E-5104-4B95-BE78-61BAD4F5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355A66-B7CC-4793-8D63-3A0BE0B1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47B7E5-D16C-4F1B-BB12-66E216E2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0F2C68-5092-444C-8E99-44AB4321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2B4FE2-F85E-4C93-B4D3-60D7E747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7C978C-DDB0-4F82-B949-88870AF0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9F332-6AC1-4996-A9CE-2A720FB0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14F724-DC99-44D0-A32A-5D3BC2FC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BD2C-931B-4BEE-9D76-1B19A1519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EBCE9-E90D-429D-9675-8885797A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DAF73-C5E6-422C-A169-98BAC745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C6D66-267E-4F69-A34F-A3717017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5923F5-945D-4AED-9FDD-FF3DD38A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D22B3A-999C-4909-BC11-232A38D7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BE59EE-651B-4B6A-811B-7554DEE9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09CB21-BAAF-4FC8-9B24-C385F38F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458095-E3A3-43C0-9859-DCF19DD2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100801-479A-4F16-AE17-11A5307C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DDD6F8-8C31-48B4-8A40-81FD5401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BCCEDC-31FD-48F5-B9FD-A9D6795D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D23F50-941E-46C5-8DCB-806E08ED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F163B2-A2DD-4AD2-8994-48B5C43F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C1081D-7116-4528-8F26-33813ADC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4DAC14-B963-472C-8586-F9330EEF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966841-FBAF-43DD-AE50-43BB0372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940618-9E69-486D-B1B9-2EC2E215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CE995-EE70-478B-BB59-311DABCD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FCD57-BF1E-4397-8C60-6CAD7554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DC55C-DB6C-4F4B-818C-E0A15F1E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67573-35A1-4071-9296-8D9B7B84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408CF-9BDB-4092-86E5-2B88D97F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4E145-1231-4D70-82E7-6174024840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80DBC-1461-4E1B-A2CD-62338DE7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59D76-952C-4DA1-B418-BE48F518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A3EA1-956F-4BE0-915B-AB45117D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43BA6-6688-431A-8679-1B0A880C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5D82F-61FF-455C-84CB-7679975A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77DD4-F41C-4CCC-80EB-82F1A50B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CED3F-FA0C-486D-8DA0-52B408D0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72931-1B98-4DB5-AFE2-6D20CC4095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9B4BA-CC7E-416B-B9B6-8FD55BF0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7847C-C40E-469D-93CF-04E7EF58B90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3A897-6F65-4FB7-90C9-793E0208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FE075-4DA1-4854-B0E1-A1A00448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94B53-4620-4387-832E-B51E58E3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B3E4A0-30FD-4710-AB3A-1B46C04C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79548-4866-419F-B967-FD55B931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6E395-2D19-483B-AB15-A71E9BC3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23B1D-C485-4A11-B390-83A71902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E044C-4293-40F1-81DF-A5DD2310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79DEB-1CAC-4A2F-A2AC-5E3D3734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EFBAE8-109F-498B-AA06-A383AAAB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B9127-596D-4E16-8B81-5632F2899A9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274F3-C294-449E-9C31-27E237BA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44C8C2-4EAD-467D-AF31-CCD9BFA0AF1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017822-3232-44FF-81D0-CC358F0492B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A28188-7C06-42D4-A31D-B0EFFD48FE6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41E25C-600F-4E4D-9DFF-E01F932C754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4F9F4D-9821-4079-83A1-C9F6B283C4A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FAE5A5-7EDC-4439-BF47-26D712DE50A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93F16C-73F9-4ACF-AC8B-9575DEA52C8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0229B4-320C-44B7-B255-2563068FC8B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1AA4B3-6342-419D-ACDF-794FB22E9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DFC39-1F45-4B04-8584-94F2DD3B963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4BCEE7-1C42-4BFE-BD9F-4D95E34D7C7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315A57-3A0E-4964-BA87-34B60BD4D77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44D7A9-97E0-4D33-9319-E8135695AC9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AC8FA-2660-4008-9F3E-6DEEEB2446E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3FBC1-31DF-4BC1-99C7-C85D47EF03D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DF24D-312C-4D43-8AF9-BCA33242E1D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C1B59-586A-425C-BD17-30B9C8D6BC5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84A23-AD00-4719-B6FA-05539391ABC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2BD3F-56DC-4B1B-9783-29E31AFBCB3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48C98-1CB1-4A2C-9D35-520D760E9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96069-9EE8-4AD2-99B9-487C348C97E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77AD2-DAB9-466B-B4DA-875B45D774F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75968-31AC-4042-977A-1994B8DA365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1542C-1BD7-4591-AA7A-64531334323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216BA-AC88-4B22-B483-2C587B4F09E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1192F-323D-4D06-B556-39E0101CE9D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8BC69-6A50-482A-A07E-75DC6E35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59622-4C78-48EA-BA50-848662A1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0FA68-1044-4D61-B951-370E7A35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862FD-F59E-4BB6-95CB-5153883C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009FE-5638-443C-A3AF-949EC8EA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DCC96-79BF-4836-8838-D5C0F9BE58C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9B728-AA40-4BA5-8035-CE156020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01370-C2A4-4974-9AF0-B8111A65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5FFD2-B20C-4396-A9FB-10FDE74F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E4A63-9627-4701-8147-33D17679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334B8-D444-4D25-986B-EEEF9990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A5E78-757C-4A8D-9DAD-4615FC60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9A81F-7422-4799-A88B-FBF8F75F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98D10-EEA9-4C6B-9D42-3369D9BE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8FEFA-5D79-4488-9F59-2D3F2B9A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86FA5-4232-40F4-AF1E-FB9DF4A3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642C-58BE-4537-8312-A78438061F7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58CF-1EBD-4761-A0C8-6DE3096C8F8D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A35B-DF0E-4CBC-BAA1-D60819599A95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89CB-6B49-47B7-817F-8C246815962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5191-311B-4E2A-908C-1CD100DCE894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56C9-8B30-40F6-B907-152A8230774B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BE46-F815-45D1-BE78-C97B52BF5653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2F54-3996-48CF-BA09-791355C41D58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661A-A4F6-42F1-869F-58C27CF5B874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200" y="85860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152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960" y="74268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800" y="73008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7642-DCD9-4AFE-8852-B250F7BE7B0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8970-9204-4AC9-88C3-6564A33A7E74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B41C-535E-4BCE-8EB2-436D73887008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9B18-D82B-4421-BC4E-1437FD3B172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8C6E-1232-4726-83CF-5E04575CADA8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618A-F4F9-4C24-AD7F-94571DEEB1B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56C8-75AE-4323-B377-A4E798A6761D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D668-5A7E-43A9-9FBB-2C26ADEC0F3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636B-F47F-4C20-B3E3-35AC48258215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AC2B-0AAE-4DCA-BA0E-13AEA1EC0FB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CE2D-E261-422A-A4FB-FC18ADC48900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66AD-8F5F-4EDF-A7F4-9ABA321FB75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497E-BEC6-496E-8935-61B4A364502F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061D-355E-4720-9E30-F17E436602D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B0E8-0068-4289-87D0-FA577086609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3878-553D-46CA-826F-5A713578D7E5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sip.legalis.pl/document-view.seam?documentId=mfrxilrtge2tqmrtgu2tsltqmfyc4mzrga2dqnbwgm" TargetMode="External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9360000" cy="59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Kontraktowanie</a:t>
            </a:r>
            <a:br>
              <a:rPr sz="4400"/>
            </a:b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pl-PL" sz="4400" spc="-1" strike="noStrike">
                <a:solidFill>
                  <a:srgbClr val="ff0000"/>
                </a:solidFill>
                <a:latin typeface="Candara"/>
              </a:rPr>
              <a:t>KRYTERIA OCENY OFER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415800" y="1052280"/>
            <a:ext cx="9074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2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Użyte w rozporządzeniu określenia oznaczają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0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lokalizacja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 - budynek lub zespół budynków oznaczonych tym samym adresem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albo oznaczonych innymi adresami, ale położonych obok siebie i tworzących funkcjonalną całość, w których jest zlokalizowane miejsce udzielania świadczeń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1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miejsce udzielania świadczeń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- pomieszczenie lub zespół pomieszczeń w tej samej lokalizacji, powiązanych funkcjonalnie i organizacyjnie w celu wykonywania świadczeń gwarantowanych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415800" y="1052280"/>
            <a:ext cx="9074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5 ust. 1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ferent, który deklaruje spełnianie warunku podlegającego ocenie, jest obowiązany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go spełniać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w okresie związania ofertą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ra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przez cały okres realizacji umowy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chyba że przepisy rozporządzenia stanowią inaczej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5 ust. 2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2862aa"/>
                </a:solidFill>
                <a:uFillTx/>
                <a:latin typeface="Times New Roman"/>
              </a:rPr>
              <a:t>Oferent, który zadeklarował spełnianie określonego warunku podlegającego ocenie, jest obowiązany go spełniać </a:t>
            </a:r>
            <a:r>
              <a:rPr b="1" lang="pl-PL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datkowo ponad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pl-PL" sz="2400" spc="-1" strike="noStrike" u="sng">
                <a:solidFill>
                  <a:srgbClr val="2862aa"/>
                </a:solidFill>
                <a:uFillTx/>
                <a:latin typeface="Times New Roman"/>
              </a:rPr>
              <a:t>warunki realizacji świadczeń określone w rozporządzeniach wydanych na podstawie art. 31d ustawy o świadczeniach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 txBox="1"/>
          <p:nvPr/>
        </p:nvSpPr>
        <p:spPr>
          <a:xfrm>
            <a:off x="272880" y="620280"/>
            <a:ext cx="936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6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) certyfikat ma zastosowanie w przedmiocie postępowania, na który złożono ofertę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2) certyfikat obejmuje miejsce udzielania świadczeń wskazane w ofercie, a w przypadku dysponenta zespołów ratownictwa medycznego - miejsce stacjonowania zespołów ratownictwa medycznego wskazane w oferci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3)  certyfikat jest wydany przez jednostkę certyfikującą systemy zarządzania posiadającą akredytację udzieloną przez Polskie Centrum Akredytacji lub przez jednostkę akredytującą będącą sygnatariuszem porozumienia o wzajemnym uznawaniu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„EA Multilateral Agreement” i jest opatrzony symbolem akredytacji jednostki akredytującej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4) certyfikat jest wydany w zakresie systemów zarządzania: ISO 9001, ISO/IEC 27001, ISO 17025 lub 15189 - zgodnie z ich przyporządkowaniem do poszczególnych zakresów świadczeń wynikającym z załączników do rozporządzenia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5) akredytacja, o której mowa w pkt 3, obejmuje certyfikację systemów zarządzania wymienionych w pkt 4 oraz jest wydana w zakresie usług medycznych (branża „Zdrowie i opieka społeczna” zgodnie z kodem 38 EA, w przypadku: ISO 9001, ISO 14001,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PN-N 18001 lub OHSAS 18001)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415440" y="620640"/>
            <a:ext cx="9001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7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ryterium wpisu do rejestru jest spełnione, jeżeli wpis jest ujawniony w księdze rejestrowej oferenta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8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ryterium "jakość - wyniki kontroli" jest spełnione, jeżeli nieprawidłowość dotyczy umowy realizowanej w dniu złożenia oferty w ramach danego zakresu świadczeń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i w ramach obszaru, którego dotyczy postępowanie, oraz została stwierdzona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postępowaniu kontrolnym zakończonym wystąpieniem pokontrolnym lub w trakcie monitorowania, o którym mowa w art. 107 ust. 5 pkt 12 ustawy o świadczeniach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944280" y="1700280"/>
            <a:ext cx="80262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Jakość wyniki kontroli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Przedmiotowe kryterium obejmuje wszystkie kontrol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(a nie jedynie ostatnią), dotyczące umowy realizowanej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dniu złożenia oferty w ramach danego zakresu świadczeń i w ramach obszaru, którego dotyczy postępowani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 txBox="1"/>
          <p:nvPr/>
        </p:nvSpPr>
        <p:spPr>
          <a:xfrm>
            <a:off x="488880" y="620640"/>
            <a:ext cx="9072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9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przypadku uzyskania jednakowej łącznej oceny oferty przez co najmniej dwóch oferentów kryterium różnicującym oferty stanowi ocena uzyskana w kolejności według następujących kryteriów: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jak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kompleksow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dostępn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ciągł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 oraz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cena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44520" y="1341000"/>
            <a:ext cx="914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pielęgnacyjne i opiekuńcze w ramach opieki długotermin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w pielęgniarskiej opiece długoterminowej domow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Picture 2" descr=""/>
          <p:cNvPicPr/>
          <p:nvPr/>
        </p:nvPicPr>
        <p:blipFill>
          <a:blip r:embed="rId1"/>
          <a:stretch/>
        </p:blipFill>
        <p:spPr>
          <a:xfrm>
            <a:off x="933480" y="1341360"/>
            <a:ext cx="81104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6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przedmiotowy warunek należy brać pod uwagę tylko pielęgniarki z ukończoną specjalizacją lub kursem kwalifikacyjnym we wskazanej dziedzinie pielęgniarstwa, 40% liczone od sumy wykazanego czasu pracy pielęgniarek w oferci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2" descr=""/>
          <p:cNvPicPr/>
          <p:nvPr/>
        </p:nvPicPr>
        <p:blipFill>
          <a:blip r:embed="rId1"/>
          <a:stretch/>
        </p:blipFill>
        <p:spPr>
          <a:xfrm>
            <a:off x="631800" y="1744560"/>
            <a:ext cx="8713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560160" y="1484280"/>
            <a:ext cx="9001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Rozporządzenie Ministra Zdrowia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sprawie szczegółowych kryteriów wyboru ofert w postępowaniu w sprawie zawarcia umów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o udzielanie świadczeń opieki zdrowotnej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z dnia 5 sierpnia 2016 r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(Dz.U. z 2016 r. poz. 1372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2FDB-B1A3-4335-801D-E2560A73485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8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Pielęgniarki z co najmniej 2-letnim doświadczeniem w udzielaniu świadczeń w warunkach domowych…” – bierze się pod uwagę udokumentowany staż pracy w pielęgniarskiej opiece długoterminowej domowej, podstawowej opiece zdrowotnej (pielęgniarki poz), pracy w domu pomocy społeczn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9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Pielęgniarki z co najmniej 3-letnim doświadczeniem w pielęgnacji chorych w warunkach oddziału szpitalnego …” – bierze się pod uwagę udokumentowany staż pracy w warunkach oddziału szpitalnego (bez izby przyjęć, SOR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0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Co najmniej 50% pielęgniarek udziela świadczeń w wymiarze równoważnika 1 etatu” – dotyczy liczby pielęgniarek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 nie czasu pracy pielęgniarek) i tylko umów o pracę (wyjątek samozatrudnienie tj. indywidualne, grupowe praktyki pielęgniarskie) należy pamiętać o konieczności spełniania tego warunku przez cały okres obowiązywania umow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" descr=""/>
          <p:cNvPicPr/>
          <p:nvPr/>
        </p:nvPicPr>
        <p:blipFill>
          <a:blip r:embed="rId1"/>
          <a:stretch/>
        </p:blipFill>
        <p:spPr>
          <a:xfrm>
            <a:off x="631800" y="2792520"/>
            <a:ext cx="87138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2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przedmiotowy warunek należy brać pod uwagę wszystkich świadczeniobiorców, którzy otrzymali ocenę według skali Barthel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5 ze skierowania lub uzyskali taką oceną przynajmniej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 w trakcie pielęgniarskiej opieki długoterminowej domowej i byli objęci taką opieką przez co najmniej 90 dni w okresie ostatnich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miesięcy poprzedzających o 2 miesiące miesiąc, w którym ogłoszono postępowanie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"/>
          <p:cNvPicPr/>
          <p:nvPr/>
        </p:nvPicPr>
        <p:blipFill>
          <a:blip r:embed="rId1"/>
          <a:stretch/>
        </p:blipFill>
        <p:spPr>
          <a:xfrm>
            <a:off x="488880" y="2433600"/>
            <a:ext cx="89280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4" name=""/>
          <p:cNvGraphicFramePr/>
          <p:nvPr/>
        </p:nvGraphicFramePr>
        <p:xfrm>
          <a:off x="488880" y="1484280"/>
          <a:ext cx="8785440" cy="403380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43988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obliczeń procentowego udziału świadczeniobiorców z oceną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punktów w skali Barthel, należy brać pod uwagę wszystkie osoby objęte pielęgniarską opieką długoterminową domową, które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załączonej do skierowania karcie oceny lub w trakcie opieki uzyskały przynajmniej raz ocenę 0 punktów w skali Barthel, w stosunku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wszystkich osób objętych tą formą opieki przez danego świadczeniodawcę. Sformułowanie "objętych opieką w ramach pielęgniarskiej opieki długoterminowej domowej" oznacza zarówno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 osoby , które zostały przyjęte do takiej opieki w badanym okresie czasu, jak i te osoby, które były przyjęte wcześniej, a kontynuowały opiekę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Picture 2" descr=""/>
          <p:cNvPicPr/>
          <p:nvPr/>
        </p:nvPicPr>
        <p:blipFill>
          <a:blip r:embed="rId1"/>
          <a:stretch/>
        </p:blipFill>
        <p:spPr>
          <a:xfrm>
            <a:off x="488880" y="2701800"/>
            <a:ext cx="892800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704880" y="1700280"/>
          <a:ext cx="8496360" cy="3384360"/>
        </p:xfrm>
        <a:graphic>
          <a:graphicData uri="http://schemas.openxmlformats.org/drawingml/2006/table">
            <a:tbl>
              <a:tblPr/>
              <a:tblGrid>
                <a:gridCol w="8496360"/>
              </a:tblGrid>
              <a:tr h="33843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a wyliczania jest analogiczna jak w ppkt.1.2 Podstawę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wyliczenia stanowią wszystkie osoby objęte pielęgniarską opieką długoterminową, które w trakcie opieki przynajmniej raz otrzymały ocenę 5-15 punktów w skali Barthel, w stosunku do wszystkich osób objętych tą formą opieki przez danego świadczeniodawcę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2" descr=""/>
          <p:cNvPicPr/>
          <p:nvPr/>
        </p:nvPicPr>
        <p:blipFill>
          <a:blip r:embed="rId1"/>
          <a:stretch/>
        </p:blipFill>
        <p:spPr>
          <a:xfrm>
            <a:off x="488880" y="2576520"/>
            <a:ext cx="8928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88520" y="1196640"/>
            <a:ext cx="900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Rozporządzenie określa </a:t>
            </a:r>
            <a:r>
              <a:rPr b="1" lang="pl-PL" sz="3200" spc="-1" strike="noStrike" u="sng">
                <a:solidFill>
                  <a:srgbClr val="ff0000"/>
                </a:solidFill>
                <a:uFillTx/>
                <a:latin typeface="Candara"/>
              </a:rPr>
              <a:t>szczegółowe kryteria wyboru ofert </a:t>
            </a: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postępowaniu w sprawie zawarcia umów o udzielanie świadczeń opieki zdrowotnej </a:t>
            </a:r>
            <a:r>
              <a:rPr b="1" lang="pl-PL" sz="3200" spc="-1" strike="noStrike" u="sng">
                <a:solidFill>
                  <a:srgbClr val="ff0000"/>
                </a:solidFill>
                <a:uFillTx/>
                <a:latin typeface="Candara"/>
              </a:rPr>
              <a:t>w podziale na poszczególne zakresy lub rodzaje świadczeń opieki zdrowotnej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na podstawie </a:t>
            </a:r>
            <a:r>
              <a:rPr b="0" lang="pl-PL" sz="32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art. 148 ust. 3</a:t>
            </a: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 ustawy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z dnia 27 sierpnia 2004 r. o świadczeniach opieki zdrowotnej finansowanych ze środków publicznych ( t.j. Dz.U. z 2018 r. poz. 1510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149C-DD90-4059-AC3A-60A565B9BB0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8" name=""/>
          <p:cNvGraphicFramePr/>
          <p:nvPr/>
        </p:nvGraphicFramePr>
        <p:xfrm>
          <a:off x="704880" y="1484280"/>
          <a:ext cx="8569440" cy="39607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39607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leży przyjąć, że kryterium jest spełnione, jeżeli dotyczy wszystkich świadczeniobiorców objętych świadczeniami pielęgniarskiej opieki długoterminowej domowej w okresach pomiędzy wszystkimi hospitalizacjami oraz po ich zakończeniu, z wyłączeniem zgonu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b objęcia świadczeniobiorcy inną formą opieki w ramach świadczeń opieki zdrowotnej finansowanych ze środków publicznych. Spełnienie ww. warunku kryterialnych oferent może potwierdzić na podstawie zgromadzonej dokumentacji medycznej. np. w sytuacji gdy pacjent zrezygnuje ze świadczeń pielęgniarskiej opieki długoterminow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2" descr=""/>
          <p:cNvPicPr/>
          <p:nvPr/>
        </p:nvPicPr>
        <p:blipFill>
          <a:blip r:embed="rId1"/>
          <a:stretch/>
        </p:blipFill>
        <p:spPr>
          <a:xfrm>
            <a:off x="488880" y="3292560"/>
            <a:ext cx="892800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2" descr=""/>
          <p:cNvPicPr/>
          <p:nvPr/>
        </p:nvPicPr>
        <p:blipFill>
          <a:blip r:embed="rId1"/>
          <a:stretch/>
        </p:blipFill>
        <p:spPr>
          <a:xfrm>
            <a:off x="704880" y="1197000"/>
            <a:ext cx="8209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488880" y="2643120"/>
            <a:ext cx="89280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2" descr=""/>
          <p:cNvPicPr/>
          <p:nvPr/>
        </p:nvPicPr>
        <p:blipFill>
          <a:blip r:embed="rId1"/>
          <a:stretch/>
        </p:blipFill>
        <p:spPr>
          <a:xfrm>
            <a:off x="488880" y="2492280"/>
            <a:ext cx="89280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2" descr=""/>
          <p:cNvPicPr/>
          <p:nvPr/>
        </p:nvPicPr>
        <p:blipFill>
          <a:blip r:embed="rId1"/>
          <a:stretch/>
        </p:blipFill>
        <p:spPr>
          <a:xfrm>
            <a:off x="488880" y="2421000"/>
            <a:ext cx="89280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4" name=""/>
          <p:cNvGraphicFramePr/>
          <p:nvPr/>
        </p:nvGraphicFramePr>
        <p:xfrm>
          <a:off x="776160" y="2205000"/>
          <a:ext cx="8425080" cy="3095640"/>
        </p:xfrm>
        <a:graphic>
          <a:graphicData uri="http://schemas.openxmlformats.org/drawingml/2006/table">
            <a:tbl>
              <a:tblPr/>
              <a:tblGrid>
                <a:gridCol w="8425080"/>
              </a:tblGrid>
              <a:tr h="30956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jest spełniony, gdy oferent wg stanu na dzień złożenia oferty udziela świadczeń w ramach zawartej umowy w danym zakresie świadczeń oraz w danym obszarze, na który zostało ogłoszone postępowanie. </a:t>
                      </a:r>
                      <a:r>
                        <a:rPr b="0" lang="pl-PL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otyczy także sytuacji dokonania sukcesji generalnej czy cesji umowy, cesjonariusz (sukcesor) wchodzi w ogół praw i obowiązków wynikających z umowy o udzielanie świadczeń opieki zdrowotn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2" descr=""/>
          <p:cNvPicPr/>
          <p:nvPr/>
        </p:nvPicPr>
        <p:blipFill>
          <a:blip r:embed="rId1"/>
          <a:stretch/>
        </p:blipFill>
        <p:spPr>
          <a:xfrm>
            <a:off x="415800" y="2492280"/>
            <a:ext cx="892836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6" name=""/>
          <p:cNvGraphicFramePr/>
          <p:nvPr/>
        </p:nvGraphicFramePr>
        <p:xfrm>
          <a:off x="776160" y="1773360"/>
          <a:ext cx="8498160" cy="360036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18907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spełniony, gdy oferent wg stanu na dzień złożenia oferty udziela świadczeń w ramach zawartej umowy od 5 lat w danym zakresie świadczeń oraz w danym obszarze, na który zostało ogłoszone postępowanie (komórka organizacyjn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096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spełniony, gdy oferent wg stanu na dzień złożenia oferty udziela świadczeń w ramach zawartej umowy od 10 lat w danym zakresie świadczeń oraz w danym obszarze, na który zostało ogłoszone postępowanie (komórka organizacyjn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" descr=""/>
          <p:cNvPicPr/>
          <p:nvPr/>
        </p:nvPicPr>
        <p:blipFill>
          <a:blip r:embed="rId1"/>
          <a:stretch/>
        </p:blipFill>
        <p:spPr>
          <a:xfrm>
            <a:off x="560520" y="2565360"/>
            <a:ext cx="87138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DC06-1AB0-4241-9FCA-0474C47522E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5" descr=""/>
          <p:cNvPicPr/>
          <p:nvPr/>
        </p:nvPicPr>
        <p:blipFill>
          <a:blip r:embed="rId1"/>
          <a:stretch/>
        </p:blipFill>
        <p:spPr>
          <a:xfrm>
            <a:off x="920880" y="1700280"/>
            <a:ext cx="8208720" cy="3989160"/>
          </a:xfrm>
          <a:prstGeom prst="rect">
            <a:avLst/>
          </a:prstGeom>
          <a:ln w="0">
            <a:noFill/>
          </a:ln>
        </p:spPr>
      </p:pic>
      <p:sp>
        <p:nvSpPr>
          <p:cNvPr id="845" name="Strzałka w lewo 1"/>
          <p:cNvSpPr/>
          <p:nvPr/>
        </p:nvSpPr>
        <p:spPr>
          <a:xfrm>
            <a:off x="8481960" y="2433600"/>
            <a:ext cx="1008000" cy="287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6" descr=""/>
          <p:cNvPicPr/>
          <p:nvPr/>
        </p:nvPicPr>
        <p:blipFill>
          <a:blip r:embed="rId2"/>
          <a:stretch/>
        </p:blipFill>
        <p:spPr>
          <a:xfrm>
            <a:off x="8459640" y="3573360"/>
            <a:ext cx="1030320" cy="304920"/>
          </a:xfrm>
          <a:prstGeom prst="rect">
            <a:avLst/>
          </a:prstGeom>
          <a:ln w="0">
            <a:noFill/>
          </a:ln>
        </p:spPr>
      </p:pic>
      <p:sp>
        <p:nvSpPr>
          <p:cNvPr id="847" name="Strzałka w lewo 7"/>
          <p:cNvSpPr/>
          <p:nvPr/>
        </p:nvSpPr>
        <p:spPr>
          <a:xfrm>
            <a:off x="8459640" y="4941720"/>
            <a:ext cx="1008360" cy="287640"/>
          </a:xfrm>
          <a:prstGeom prst="leftArrow">
            <a:avLst>
              <a:gd name="adj1" fmla="val 50000"/>
              <a:gd name="adj2" fmla="val 49955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344520" y="1341000"/>
            <a:ext cx="914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pieka paliatywna i hospicyjn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w hospicjum domowy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944640" y="1268280"/>
            <a:ext cx="8026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"/>
          <p:cNvPicPr/>
          <p:nvPr/>
        </p:nvPicPr>
        <p:blipFill>
          <a:blip r:embed="rId1"/>
          <a:stretch/>
        </p:blipFill>
        <p:spPr>
          <a:xfrm>
            <a:off x="560520" y="1557360"/>
            <a:ext cx="84103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Picture 2" descr=""/>
          <p:cNvPicPr/>
          <p:nvPr/>
        </p:nvPicPr>
        <p:blipFill>
          <a:blip r:embed="rId1"/>
          <a:stretch/>
        </p:blipFill>
        <p:spPr>
          <a:xfrm>
            <a:off x="560520" y="2205000"/>
            <a:ext cx="84103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2" descr=""/>
          <p:cNvPicPr/>
          <p:nvPr/>
        </p:nvPicPr>
        <p:blipFill>
          <a:blip r:embed="rId1"/>
          <a:stretch/>
        </p:blipFill>
        <p:spPr>
          <a:xfrm>
            <a:off x="560520" y="1644480"/>
            <a:ext cx="84103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2" descr=""/>
          <p:cNvPicPr/>
          <p:nvPr/>
        </p:nvPicPr>
        <p:blipFill>
          <a:blip r:embed="rId1"/>
          <a:stretch/>
        </p:blipFill>
        <p:spPr>
          <a:xfrm>
            <a:off x="560520" y="2276640"/>
            <a:ext cx="85690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2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88563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2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841032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944280" y="1125360"/>
            <a:ext cx="8026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Candara"/>
              </a:rPr>
              <a:t>Problematyczne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eryfikacja spełnienia warunku w którym występuje pojęcie „świadczeniobiorcy” przez oferentów, którzy nie byli dotychczas stroną umowy zawartej z NFZ (opinia MZ wskazująca na równe traktowanie wszystkich świadczeniodawców ubiegających się o zawarcie umowy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eryfikacja warunków dodatkowo ocenianych powinno być prowadzone w oparciu o dostępne dla NFZ dane,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przypadku danych niedostępnych dla NFZ, oferent który zadeklarował spełnianie określonego warunku, jest zobowiązany go udokumentować. Potwierdzenie jest możliwe w szczególności na podstawie zgromadzonej dokumentacji medycznej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2" descr=""/>
          <p:cNvPicPr/>
          <p:nvPr/>
        </p:nvPicPr>
        <p:blipFill>
          <a:blip r:embed="rId1"/>
          <a:stretch/>
        </p:blipFill>
        <p:spPr>
          <a:xfrm>
            <a:off x="1446120" y="3048120"/>
            <a:ext cx="7016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415440" y="1700280"/>
            <a:ext cx="9145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yrażenie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2 miesięcy poprzedzających o 2 miesiące miesiąc,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którym ogłoszono postępowanie” np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głoszenie postępowania konkursowego w dniu 7 marca 2019 r. wówczas należy brać pod uwagę okr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d 1 stycznia 2018 r. do 31 grudnia 2018 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2"/>
          <p:cNvSpPr/>
          <p:nvPr/>
        </p:nvSpPr>
        <p:spPr>
          <a:xfrm>
            <a:off x="631800" y="2060640"/>
            <a:ext cx="8785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452160" y="1484280"/>
            <a:ext cx="9001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Świadczenia pielęgnacyjne i opiekuńcze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ramach opieki długoterminowej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9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Rozporządzenie Ministra Zdrowia zmieniające rozporządzeni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sprawie szczegółowych kryteriów wyboru ofert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postępowaniu w sprawie zawarcia umów o udzielanie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 dnia 8 lutego 2018 r. (Dz.U. z 2018 r. poz. 385) – </a:t>
            </a:r>
            <a:r>
              <a:rPr b="1" lang="pl-PL" sz="2400" spc="-1" strike="noStrike">
                <a:solidFill>
                  <a:srgbClr val="ff0000"/>
                </a:solidFill>
                <a:latin typeface="Candara"/>
              </a:rPr>
              <a:t>załącznik nr 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E017-1DB2-45BD-8429-2D7D471774C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415440" y="1484280"/>
            <a:ext cx="9001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Opieka paliatywna i hospicyjn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8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Rozporządzenie Ministra Zdrowia z dnia 5 sierpnia 2016 r. w sprawie szczegółowych kryteriów wyboru ofert w postępowaniu w sprawie zawarcia umów o udzielanie świadczeń opieki zdrowotnej </a:t>
            </a:r>
            <a:br>
              <a:rPr sz="2200"/>
            </a:b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(Dz.U. z 2016, poz. 1372 z późniejszymi zmianami - w szczególności </a:t>
            </a:r>
            <a:br>
              <a:rPr sz="2200"/>
            </a:b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Dz. U. z 2017 r. poz. 1279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Candara"/>
              </a:rPr>
              <a:t>Załącznik nr 11 </a:t>
            </a: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–  Wykaz szczegółowych kryteriów wyboru ofert </a:t>
            </a:r>
            <a:br>
              <a:rPr sz="2000"/>
            </a:b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wraz z wyznaczającymi je warunkami oraz przypisaną im wartością w rodzaju </a:t>
            </a:r>
            <a:r>
              <a:rPr b="1" lang="pl-PL" sz="2000" spc="-1" strike="noStrike">
                <a:solidFill>
                  <a:srgbClr val="ff0000"/>
                </a:solidFill>
                <a:latin typeface="Candara"/>
              </a:rPr>
              <a:t>opieka paliatywna i hospicyjna - </a:t>
            </a: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ze zmianami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4520-67D6-45F7-8C12-8130E583F41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848880" y="1773000"/>
            <a:ext cx="8280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Tabela nr 1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kreśla warunki dla poszczególnych zakresów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Tabela nr 2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kreśla warunki wspólne dla całego rodzaju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Kryteria wyboru ofer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jak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dostępn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kompleksow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95000" y="2637000"/>
            <a:ext cx="89154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Candara"/>
              </a:rPr>
              <a:t>Oceny ofert, według określonych kryteriów, dokonuje się odrębnie dla każdego oferowanego zakresu świadczeń opieki zdrowotnej w ramach danego postępowania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B11F-1EBD-4C6F-9210-6F41722E448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4-03-13T11:33:09Z</cp:lastPrinted>
  <dcterms:modified xsi:type="dcterms:W3CDTF">2019-03-15T13:18:14Z</dcterms:modified>
  <cp:revision>1282</cp:revision>
  <dc:subject/>
  <dc:title>Slajd 1</dc:title>
</cp:coreProperties>
</file>